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6.gif" ContentType="image/gif"/>
  <Override PartName="/ppt/media/image36.gif" ContentType="image/gif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11.gif" ContentType="image/gif"/>
  <Override PartName="/ppt/media/image7.jpeg" ContentType="image/jpeg"/>
  <Override PartName="/ppt/media/image35.gif" ContentType="image/gif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3.jpeg" ContentType="image/jpeg"/>
  <Override PartName="/ppt/media/image34.gif" ContentType="image/gif"/>
  <Override PartName="/ppt/media/PaintingTheOcean.wav" ContentType="audio/x-wav"/>
  <Override PartName="/ppt/media/image4.png" ContentType="image/png"/>
  <Override PartName="/ppt/media/image1.png" ContentType="image/png"/>
  <Override PartName="/ppt/media/image13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917-AB82-424F-860B-A5E1BEAE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CC8-39D3-4E72-837E-5CF9E6D0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A135-03C4-48B0-B1C6-088CF296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3DD2-022C-4DC4-A5D3-9426C2E7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0299-C802-4DD9-A1EC-60B17EB4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6ACB-B56C-4975-BBAA-C9D61C46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7C1F-28C0-4F7D-9FF4-7454CC54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537D-56EF-435D-B90F-A3E4E38E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079B-7F77-4363-AC8C-328A45AC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0DFC-0564-4488-985F-B364A778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6AB5-5A61-49F5-A202-0A50EE78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88F-E77C-4A4D-87B3-2A1429F0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6D7D-5F9E-4544-9832-86AE920F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C93A-7B2C-47EF-AFED-7B170766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B515-8F5F-4D13-BB1B-0456C8EE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3157-1765-4CBB-A6A4-15992483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F0D5-D796-4775-8C4A-438683AA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495E1-C7A8-4B0A-9CB9-619C4835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1EAE5-2005-4680-92A2-4B922A92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685F4-E169-4179-9A29-827342C9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9A97B-3AFF-4744-9B2E-E0422F5A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B5965-813B-4CAC-ADC1-4521445C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D880-1E34-4B6B-BEFD-40098BCE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AC95A-E87E-495C-8EF2-294C05FD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3290B-CB69-4FB3-9F17-7D310146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EB51C-A9BD-49B9-9A64-67A26461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61E41-EBC7-4ED8-A613-F8CCAA08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D22C6-CDBC-4C8B-8869-445745BB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DF8B0-0F95-4F14-80CA-DA2D9E5D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A4795-41E3-4ED5-BB46-F9F834F1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46407-FE9D-4932-8CBF-274F5FDA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18A1B-174D-4235-A885-F88B54FD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265E2-E5B5-42CF-B510-A56535D8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0CDC-F1D6-49AE-91BD-82E17900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CC5D7-065D-4B11-9E8A-9630FC61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1C4DC-88FD-42DA-9E41-42FAE1C6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53D3E-D72B-46A3-A0AB-C0DB8894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CE427-008C-4CCC-B985-D2A57B35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C625B-3E62-4E0D-B7A1-043C6BC0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7AD8D-F7D5-4EEB-BD7E-AF337D7E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831DD-95C5-4A53-8969-E369D32F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E589F-BFEB-4D14-A932-429FA92E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F3F40-D859-4054-911E-B8CA7F1A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3A8-392A-4C37-B283-23B2E541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F387-A49F-45D5-AA7F-CE41FF40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95E-BA82-4648-8750-6F5D8954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F1A9-6B53-48E8-97C1-79E51DA2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BD9D-AD9A-4A7A-A3EA-6B7C23ED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BE0A-A5D7-425E-B247-BAE2E0C0D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BC87-7E54-4772-A0CC-45E1A411F417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36EC-C761-47DF-8145-7A461806007A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4363-F605-472E-BE7E-FD370FB81224}" type="slidenum">
              <a:rPr b="0" lang="pl-P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PaintingTheOcean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2.png"/><Relationship Id="rId16" Type="http://schemas.openxmlformats.org/officeDocument/2006/relationships/image" Target="../media/image13.jpeg"/><Relationship Id="rId17" Type="http://schemas.openxmlformats.org/officeDocument/2006/relationships/image" Target="../media/image14.jpe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6.jpeg"/><Relationship Id="rId22" Type="http://schemas.openxmlformats.org/officeDocument/2006/relationships/image" Target="../media/image17.png"/><Relationship Id="rId23" Type="http://schemas.openxmlformats.org/officeDocument/2006/relationships/image" Target="../media/image18.jpeg"/><Relationship Id="rId24" Type="http://schemas.openxmlformats.org/officeDocument/2006/relationships/image" Target="../media/image18.jpeg"/><Relationship Id="rId25" Type="http://schemas.openxmlformats.org/officeDocument/2006/relationships/image" Target="../media/image18.jpeg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8.jpeg"/><Relationship Id="rId8" Type="http://schemas.openxmlformats.org/officeDocument/2006/relationships/image" Target="../media/image28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8.jpeg"/><Relationship Id="rId8" Type="http://schemas.openxmlformats.org/officeDocument/2006/relationships/image" Target="../media/image28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blog.seniorennet.be/jefkenpps" TargetMode="External"/><Relationship Id="rId3" Type="http://schemas.openxmlformats.org/officeDocument/2006/relationships/image" Target="../media/image34.gif"/><Relationship Id="rId4" Type="http://schemas.openxmlformats.org/officeDocument/2006/relationships/hyperlink" Target="http://users.skynet.be/fa552294/" TargetMode="External"/><Relationship Id="rId5" Type="http://schemas.openxmlformats.org/officeDocument/2006/relationships/hyperlink" Target="mailto:ostinvest@telenet.be" TargetMode="External"/><Relationship Id="rId6" Type="http://schemas.openxmlformats.org/officeDocument/2006/relationships/image" Target="../media/image35.gif"/><Relationship Id="rId7" Type="http://schemas.openxmlformats.org/officeDocument/2006/relationships/image" Target="../media/image36.gif"/><Relationship Id="rId8" Type="http://schemas.openxmlformats.org/officeDocument/2006/relationships/image" Target="../media/image36.gif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sealjefken04" descr=""/>
          <p:cNvPicPr/>
          <p:nvPr/>
        </p:nvPicPr>
        <p:blipFill>
          <a:blip r:embed="rId2"/>
          <a:stretch/>
        </p:blipFill>
        <p:spPr>
          <a:xfrm>
            <a:off x="2905200" y="17622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492360" y="5435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P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0840" y="99072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CEP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41880" y="6200640"/>
            <a:ext cx="605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MUZIEK – MUSIC – MUSIK – MUSIQUE - MU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44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01680" y="216000"/>
            <a:ext cx="8577360" cy="6464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84160" y="3605040"/>
            <a:ext cx="3243240" cy="1715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Unlock the secrets that ar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Through doors of perception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yourself you could f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You can run as fast as you wan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You can stop for every pretty 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The real surprise is no su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The turle won the biggest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12000" y="3608280"/>
            <a:ext cx="3510720" cy="1715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ntgrendel je innerlijke  deu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oor de wegen van perceptie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an je je eigen ik bespeuren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e kan hollen zo snel als je w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e kan stoppen voor elke lieve l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 echte verrassing is er g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 schildpad won, de haas betaalde het ge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095720" y="6157800"/>
            <a:ext cx="952560" cy="304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2914560" y="577800"/>
            <a:ext cx="3314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ERCEP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778120" y="2000160"/>
            <a:ext cx="3638520" cy="3232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69560" cy="7015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414600" y="1317600"/>
            <a:ext cx="3614760" cy="3208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768760" y="901800"/>
            <a:ext cx="4735440" cy="4333680"/>
          </a:xfrm>
          <a:prstGeom prst="cube">
            <a:avLst>
              <a:gd name="adj" fmla="val 25000"/>
            </a:avLst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55800" y="1979640"/>
            <a:ext cx="3645000" cy="324324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13400" y="888840"/>
            <a:ext cx="1101960" cy="4334040"/>
          </a:xfrm>
          <a:custGeom>
            <a:avLst/>
            <a:gdLst/>
            <a:ahLst/>
            <a:rect l="l" t="t" r="r" b="b"/>
            <a:pathLst>
              <a:path w="694" h="2730">
                <a:moveTo>
                  <a:pt x="0" y="679"/>
                </a:moveTo>
                <a:lnTo>
                  <a:pt x="694" y="0"/>
                </a:lnTo>
                <a:lnTo>
                  <a:pt x="694" y="2052"/>
                </a:lnTo>
                <a:lnTo>
                  <a:pt x="8" y="2730"/>
                </a:lnTo>
                <a:lnTo>
                  <a:pt x="0" y="679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81360" y="876240"/>
            <a:ext cx="4734000" cy="1103400"/>
          </a:xfrm>
          <a:custGeom>
            <a:avLst/>
            <a:gdLst/>
            <a:ahLst/>
            <a:rect l="l" t="t" r="r" b="b"/>
            <a:pathLst>
              <a:path w="2982" h="695">
                <a:moveTo>
                  <a:pt x="694" y="0"/>
                </a:moveTo>
                <a:lnTo>
                  <a:pt x="2982" y="24"/>
                </a:lnTo>
                <a:lnTo>
                  <a:pt x="2296" y="695"/>
                </a:lnTo>
                <a:lnTo>
                  <a:pt x="0" y="687"/>
                </a:lnTo>
                <a:lnTo>
                  <a:pt x="694" y="0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778120" y="1968480"/>
            <a:ext cx="3651120" cy="3284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426360" y="925560"/>
            <a:ext cx="1101600" cy="4333680"/>
          </a:xfrm>
          <a:custGeom>
            <a:avLst/>
            <a:gdLst/>
            <a:ahLst/>
            <a:rect l="l" t="t" r="r" b="b"/>
            <a:pathLst>
              <a:path w="694" h="2730">
                <a:moveTo>
                  <a:pt x="0" y="679"/>
                </a:moveTo>
                <a:lnTo>
                  <a:pt x="694" y="0"/>
                </a:lnTo>
                <a:lnTo>
                  <a:pt x="694" y="2052"/>
                </a:lnTo>
                <a:lnTo>
                  <a:pt x="8" y="2730"/>
                </a:lnTo>
                <a:lnTo>
                  <a:pt x="0" y="679"/>
                </a:lnTo>
                <a:close/>
              </a:path>
            </a:pathLst>
          </a:custGeom>
          <a:blipFill rotWithShape="0">
            <a:blip r:embed="rId5">
              <a:alphaModFix amt="50000"/>
            </a:blip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81360" y="876240"/>
            <a:ext cx="4734000" cy="1128600"/>
          </a:xfrm>
          <a:custGeom>
            <a:avLst/>
            <a:gdLst/>
            <a:ahLst/>
            <a:rect l="l" t="t" r="r" b="b"/>
            <a:pathLst>
              <a:path w="2982" h="695">
                <a:moveTo>
                  <a:pt x="694" y="0"/>
                </a:moveTo>
                <a:lnTo>
                  <a:pt x="2982" y="24"/>
                </a:lnTo>
                <a:lnTo>
                  <a:pt x="2296" y="695"/>
                </a:lnTo>
                <a:lnTo>
                  <a:pt x="0" y="687"/>
                </a:lnTo>
                <a:lnTo>
                  <a:pt x="694" y="0"/>
                </a:lnTo>
                <a:close/>
              </a:path>
            </a:pathLst>
          </a:custGeom>
          <a:blipFill rotWithShape="0">
            <a:blip r:embed="rId6">
              <a:alphaModFix amt="50000"/>
            </a:blip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6120" y="4471920"/>
            <a:ext cx="377748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ffffff"/>
                </a:solidFill>
                <a:latin typeface="Arial"/>
              </a:rPr>
              <a:t>We are prisoners of our own m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ffffff"/>
                </a:solidFill>
                <a:latin typeface="Arial"/>
              </a:rPr>
              <a:t>Wij zijn gevangenen  van onze eigen ge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2771640" y="2009880"/>
            <a:ext cx="3640320" cy="32018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95760" y="888840"/>
            <a:ext cx="4733640" cy="1103400"/>
          </a:xfrm>
          <a:custGeom>
            <a:avLst/>
            <a:gdLst/>
            <a:ahLst/>
            <a:rect l="l" t="t" r="r" b="b"/>
            <a:pathLst>
              <a:path w="2982" h="695">
                <a:moveTo>
                  <a:pt x="694" y="0"/>
                </a:moveTo>
                <a:lnTo>
                  <a:pt x="2982" y="24"/>
                </a:lnTo>
                <a:lnTo>
                  <a:pt x="2296" y="695"/>
                </a:lnTo>
                <a:lnTo>
                  <a:pt x="0" y="687"/>
                </a:lnTo>
                <a:lnTo>
                  <a:pt x="694" y="0"/>
                </a:lnTo>
                <a:close/>
              </a:path>
            </a:pathLst>
          </a:custGeom>
          <a:blipFill rotWithShape="0">
            <a:blip r:embed="rId8">
              <a:alphaModFix amt="50000"/>
            </a:blip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2760840" y="2004840"/>
            <a:ext cx="3659040" cy="32101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819520" y="901800"/>
            <a:ext cx="4733640" cy="1103040"/>
          </a:xfrm>
          <a:custGeom>
            <a:avLst/>
            <a:gdLst/>
            <a:ahLst/>
            <a:rect l="l" t="t" r="r" b="b"/>
            <a:pathLst>
              <a:path w="2982" h="695">
                <a:moveTo>
                  <a:pt x="694" y="0"/>
                </a:moveTo>
                <a:lnTo>
                  <a:pt x="2982" y="24"/>
                </a:lnTo>
                <a:lnTo>
                  <a:pt x="2296" y="695"/>
                </a:lnTo>
                <a:lnTo>
                  <a:pt x="0" y="687"/>
                </a:lnTo>
                <a:lnTo>
                  <a:pt x="694" y="0"/>
                </a:lnTo>
                <a:close/>
              </a:path>
            </a:pathLst>
          </a:custGeom>
          <a:blipFill rotWithShape="0">
            <a:blip r:embed="rId10">
              <a:alphaModFix amt="50000"/>
            </a:blip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68760" y="1979640"/>
            <a:ext cx="3644640" cy="3243240"/>
          </a:xfrm>
          <a:prstGeom prst="rect">
            <a:avLst/>
          </a:prstGeom>
          <a:blipFill rotWithShape="0">
            <a:blip r:embed="rId11">
              <a:alphaModFix amt="50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51560" y="925560"/>
            <a:ext cx="1101600" cy="4333680"/>
          </a:xfrm>
          <a:custGeom>
            <a:avLst/>
            <a:gdLst/>
            <a:ahLst/>
            <a:rect l="l" t="t" r="r" b="b"/>
            <a:pathLst>
              <a:path w="694" h="2730">
                <a:moveTo>
                  <a:pt x="0" y="679"/>
                </a:moveTo>
                <a:lnTo>
                  <a:pt x="694" y="0"/>
                </a:lnTo>
                <a:lnTo>
                  <a:pt x="694" y="2052"/>
                </a:lnTo>
                <a:lnTo>
                  <a:pt x="8" y="2730"/>
                </a:lnTo>
                <a:lnTo>
                  <a:pt x="0" y="679"/>
                </a:lnTo>
                <a:close/>
              </a:path>
            </a:pathLst>
          </a:custGeom>
          <a:blipFill rotWithShape="0">
            <a:blip r:embed="rId12">
              <a:alphaModFix amt="50000"/>
            </a:blip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84600" y="915840"/>
            <a:ext cx="4733640" cy="1103400"/>
          </a:xfrm>
          <a:custGeom>
            <a:avLst/>
            <a:gdLst/>
            <a:ahLst/>
            <a:rect l="l" t="t" r="r" b="b"/>
            <a:pathLst>
              <a:path w="2982" h="695">
                <a:moveTo>
                  <a:pt x="694" y="0"/>
                </a:moveTo>
                <a:lnTo>
                  <a:pt x="2982" y="24"/>
                </a:lnTo>
                <a:lnTo>
                  <a:pt x="2296" y="695"/>
                </a:lnTo>
                <a:lnTo>
                  <a:pt x="0" y="687"/>
                </a:lnTo>
                <a:lnTo>
                  <a:pt x="694" y="0"/>
                </a:lnTo>
                <a:close/>
              </a:path>
            </a:pathLst>
          </a:custGeom>
          <a:blipFill rotWithShape="0">
            <a:blip r:embed="rId13">
              <a:alphaModFix amt="50000"/>
            </a:blip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9680" y="2019240"/>
            <a:ext cx="3695400" cy="3243240"/>
          </a:xfrm>
          <a:prstGeom prst="rect">
            <a:avLst/>
          </a:prstGeom>
          <a:blipFill rotWithShape="0">
            <a:blip r:embed="rId14">
              <a:alphaModFix amt="67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49680" y="2031840"/>
            <a:ext cx="3682800" cy="3243600"/>
          </a:xfrm>
          <a:prstGeom prst="rect">
            <a:avLst/>
          </a:prstGeom>
          <a:blipFill rotWithShape="0">
            <a:blip r:embed="rId15">
              <a:alphaModFix amt="92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42200" y="914400"/>
            <a:ext cx="1101600" cy="4334040"/>
          </a:xfrm>
          <a:custGeom>
            <a:avLst/>
            <a:gdLst/>
            <a:ahLst/>
            <a:rect l="l" t="t" r="r" b="b"/>
            <a:pathLst>
              <a:path w="694" h="2730">
                <a:moveTo>
                  <a:pt x="0" y="679"/>
                </a:moveTo>
                <a:lnTo>
                  <a:pt x="694" y="0"/>
                </a:lnTo>
                <a:lnTo>
                  <a:pt x="694" y="2052"/>
                </a:lnTo>
                <a:lnTo>
                  <a:pt x="8" y="2730"/>
                </a:lnTo>
                <a:lnTo>
                  <a:pt x="0" y="679"/>
                </a:lnTo>
                <a:close/>
              </a:path>
            </a:pathLst>
          </a:custGeom>
          <a:blipFill rotWithShape="0">
            <a:blip r:embed="rId16">
              <a:alphaModFix amt="89000"/>
            </a:blip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917640"/>
            <a:ext cx="4734000" cy="1103400"/>
          </a:xfrm>
          <a:custGeom>
            <a:avLst/>
            <a:gdLst/>
            <a:ahLst/>
            <a:rect l="l" t="t" r="r" b="b"/>
            <a:pathLst>
              <a:path w="2982" h="695">
                <a:moveTo>
                  <a:pt x="694" y="0"/>
                </a:moveTo>
                <a:lnTo>
                  <a:pt x="2982" y="24"/>
                </a:lnTo>
                <a:lnTo>
                  <a:pt x="2296" y="695"/>
                </a:lnTo>
                <a:lnTo>
                  <a:pt x="0" y="687"/>
                </a:lnTo>
                <a:lnTo>
                  <a:pt x="694" y="0"/>
                </a:lnTo>
                <a:close/>
              </a:path>
            </a:pathLst>
          </a:custGeom>
          <a:blipFill rotWithShape="0">
            <a:blip r:embed="rId17">
              <a:alphaModFix amt="85000"/>
            </a:blip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719440" y="900000"/>
            <a:ext cx="4808160" cy="4362120"/>
            <a:chOff x="2719440" y="900000"/>
            <a:chExt cx="4808160" cy="4362120"/>
          </a:xfrm>
        </p:grpSpPr>
        <p:sp>
          <p:nvSpPr>
            <p:cNvPr id="203" name=""/>
            <p:cNvSpPr/>
            <p:nvPr/>
          </p:nvSpPr>
          <p:spPr>
            <a:xfrm>
              <a:off x="2724480" y="2009520"/>
              <a:ext cx="3692160" cy="3252600"/>
            </a:xfrm>
            <a:prstGeom prst="rect">
              <a:avLst/>
            </a:prstGeom>
            <a:blipFill rotWithShape="0">
              <a:blip r:embed="rId18">
                <a:alphaModFix amt="95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19440" y="901800"/>
              <a:ext cx="4795560" cy="1105920"/>
            </a:xfrm>
            <a:custGeom>
              <a:avLst/>
              <a:gdLst/>
              <a:ahLst/>
              <a:rect l="l" t="t" r="r" b="b"/>
              <a:pathLst>
                <a:path w="2982" h="695">
                  <a:moveTo>
                    <a:pt x="694" y="0"/>
                  </a:moveTo>
                  <a:lnTo>
                    <a:pt x="2982" y="24"/>
                  </a:lnTo>
                  <a:lnTo>
                    <a:pt x="2296" y="695"/>
                  </a:lnTo>
                  <a:lnTo>
                    <a:pt x="0" y="687"/>
                  </a:lnTo>
                  <a:lnTo>
                    <a:pt x="694" y="0"/>
                  </a:lnTo>
                  <a:close/>
                </a:path>
              </a:pathLst>
            </a:custGeom>
            <a:blipFill rotWithShape="0">
              <a:blip r:embed="rId19">
                <a:alphaModFix amt="95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11960" y="900000"/>
              <a:ext cx="1115640" cy="4346280"/>
            </a:xfrm>
            <a:custGeom>
              <a:avLst/>
              <a:gdLst/>
              <a:ahLst/>
              <a:rect l="l" t="t" r="r" b="b"/>
              <a:pathLst>
                <a:path w="694" h="2730">
                  <a:moveTo>
                    <a:pt x="0" y="679"/>
                  </a:moveTo>
                  <a:lnTo>
                    <a:pt x="694" y="0"/>
                  </a:lnTo>
                  <a:lnTo>
                    <a:pt x="694" y="2052"/>
                  </a:lnTo>
                  <a:lnTo>
                    <a:pt x="8" y="2730"/>
                  </a:lnTo>
                  <a:lnTo>
                    <a:pt x="0" y="679"/>
                  </a:lnTo>
                  <a:close/>
                </a:path>
              </a:pathLst>
            </a:custGeom>
            <a:blipFill rotWithShape="0">
              <a:blip r:embed="rId20">
                <a:alphaModFix amt="95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724120" y="2006640"/>
            <a:ext cx="3670200" cy="3243240"/>
          </a:xfrm>
          <a:prstGeom prst="rect">
            <a:avLst/>
          </a:prstGeom>
          <a:blipFill rotWithShape="0">
            <a:blip r:embed="rId21">
              <a:alphaModFix amt="9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4640" y="901800"/>
            <a:ext cx="4734000" cy="1103040"/>
          </a:xfrm>
          <a:custGeom>
            <a:avLst/>
            <a:gdLst/>
            <a:ahLst/>
            <a:rect l="l" t="t" r="r" b="b"/>
            <a:pathLst>
              <a:path w="2982" h="695">
                <a:moveTo>
                  <a:pt x="694" y="0"/>
                </a:moveTo>
                <a:lnTo>
                  <a:pt x="2982" y="24"/>
                </a:lnTo>
                <a:lnTo>
                  <a:pt x="2296" y="695"/>
                </a:lnTo>
                <a:lnTo>
                  <a:pt x="0" y="687"/>
                </a:lnTo>
                <a:lnTo>
                  <a:pt x="694" y="0"/>
                </a:lnTo>
                <a:close/>
              </a:path>
            </a:pathLst>
          </a:custGeom>
          <a:solidFill>
            <a:srgbClr val="000000">
              <a:alpha val="95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72800" y="1063800"/>
            <a:ext cx="2582640" cy="7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0000"/>
                </a:solidFill>
                <a:latin typeface="Arial"/>
              </a:rPr>
              <a:t>Time and tide wait for no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0000"/>
                </a:solidFill>
                <a:latin typeface="Arial"/>
              </a:rPr>
              <a:t>Tijd en getijde wacht op nie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89640" y="900000"/>
            <a:ext cx="1101600" cy="4334040"/>
          </a:xfrm>
          <a:custGeom>
            <a:avLst/>
            <a:gdLst/>
            <a:ahLst/>
            <a:rect l="l" t="t" r="r" b="b"/>
            <a:pathLst>
              <a:path w="694" h="2730">
                <a:moveTo>
                  <a:pt x="0" y="679"/>
                </a:moveTo>
                <a:lnTo>
                  <a:pt x="694" y="0"/>
                </a:lnTo>
                <a:lnTo>
                  <a:pt x="694" y="2052"/>
                </a:lnTo>
                <a:lnTo>
                  <a:pt x="8" y="2730"/>
                </a:lnTo>
                <a:lnTo>
                  <a:pt x="0" y="679"/>
                </a:lnTo>
                <a:close/>
              </a:path>
            </a:pathLst>
          </a:custGeom>
          <a:blipFill rotWithShape="0">
            <a:blip r:embed="rId22">
              <a:alphaModFix amt="95000"/>
            </a:blip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20880" y="890640"/>
            <a:ext cx="4734000" cy="1103400"/>
          </a:xfrm>
          <a:custGeom>
            <a:avLst/>
            <a:gdLst/>
            <a:ahLst/>
            <a:rect l="l" t="t" r="r" b="b"/>
            <a:pathLst>
              <a:path w="2982" h="695">
                <a:moveTo>
                  <a:pt x="694" y="0"/>
                </a:moveTo>
                <a:lnTo>
                  <a:pt x="2982" y="24"/>
                </a:lnTo>
                <a:lnTo>
                  <a:pt x="2296" y="695"/>
                </a:lnTo>
                <a:lnTo>
                  <a:pt x="0" y="687"/>
                </a:lnTo>
                <a:lnTo>
                  <a:pt x="694" y="0"/>
                </a:ln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49680" y="1955880"/>
            <a:ext cx="3644640" cy="326844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91440" y="890640"/>
            <a:ext cx="1101600" cy="4333680"/>
          </a:xfrm>
          <a:custGeom>
            <a:avLst/>
            <a:gdLst/>
            <a:ahLst/>
            <a:rect l="l" t="t" r="r" b="b"/>
            <a:pathLst>
              <a:path w="694" h="2730">
                <a:moveTo>
                  <a:pt x="0" y="679"/>
                </a:moveTo>
                <a:lnTo>
                  <a:pt x="694" y="0"/>
                </a:lnTo>
                <a:lnTo>
                  <a:pt x="694" y="2052"/>
                </a:lnTo>
                <a:lnTo>
                  <a:pt x="8" y="2730"/>
                </a:lnTo>
                <a:lnTo>
                  <a:pt x="0" y="679"/>
                </a:ln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49680" y="1968480"/>
            <a:ext cx="3644640" cy="3243240"/>
          </a:xfrm>
          <a:prstGeom prst="rect">
            <a:avLst/>
          </a:pr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46440" y="878040"/>
            <a:ext cx="4734000" cy="1103040"/>
          </a:xfrm>
          <a:custGeom>
            <a:avLst/>
            <a:gdLst/>
            <a:ahLst/>
            <a:rect l="l" t="t" r="r" b="b"/>
            <a:pathLst>
              <a:path w="2982" h="695">
                <a:moveTo>
                  <a:pt x="694" y="0"/>
                </a:moveTo>
                <a:lnTo>
                  <a:pt x="2982" y="24"/>
                </a:lnTo>
                <a:lnTo>
                  <a:pt x="2296" y="695"/>
                </a:lnTo>
                <a:lnTo>
                  <a:pt x="0" y="687"/>
                </a:lnTo>
                <a:lnTo>
                  <a:pt x="694" y="0"/>
                </a:lnTo>
                <a:close/>
              </a:path>
            </a:pathLst>
          </a:cu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80280" y="915840"/>
            <a:ext cx="1127160" cy="4408560"/>
          </a:xfrm>
          <a:custGeom>
            <a:avLst/>
            <a:gdLst/>
            <a:ahLst/>
            <a:rect l="l" t="t" r="r" b="b"/>
            <a:pathLst>
              <a:path w="694" h="2730">
                <a:moveTo>
                  <a:pt x="0" y="679"/>
                </a:moveTo>
                <a:lnTo>
                  <a:pt x="694" y="0"/>
                </a:lnTo>
                <a:lnTo>
                  <a:pt x="694" y="2052"/>
                </a:lnTo>
                <a:lnTo>
                  <a:pt x="8" y="2730"/>
                </a:lnTo>
                <a:lnTo>
                  <a:pt x="0" y="679"/>
                </a:lnTo>
                <a:close/>
              </a:path>
            </a:pathLst>
          </a:custGeom>
          <a:blipFill rotWithShape="0">
            <a:blip r:embed="rId2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174600" y="-109440"/>
            <a:ext cx="9469440" cy="728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99880" y="199800"/>
            <a:ext cx="8643960" cy="12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99880" y="6640200"/>
            <a:ext cx="8656920" cy="12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8933040" y="213840"/>
            <a:ext cx="25200" cy="6388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40840" y="235080"/>
            <a:ext cx="25560" cy="638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7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2000"/>
                            </p:stCondLst>
                            <p:childTnLst>
                              <p:par>
                                <p:cTn id="12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8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9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1800"/>
                            </p:stCondLst>
                            <p:childTnLst>
                              <p:par>
                                <p:cTn id="1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6800"/>
                            </p:stCondLst>
                            <p:childTnLst>
                              <p:par>
                                <p:cTn id="1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9800"/>
                            </p:stCondLst>
                            <p:childTnLst>
                              <p:par>
                                <p:cTn id="143" nodeType="after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2.22222E-006 -4.53284E-007 L 0.06858 -0.11818 E">
                                      <p:cBhvr>
                                        <p:cTn id="144" dur="3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58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88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4800"/>
                            </p:stCondLst>
                            <p:childTnLst>
                              <p:par>
                                <p:cTn id="160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800"/>
                            </p:stCondLst>
                            <p:childTnLst>
                              <p:par>
                                <p:cTn id="173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4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7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8800"/>
                            </p:stCondLst>
                            <p:childTnLst>
                              <p:par>
                                <p:cTn id="189" nodeType="afterEffect" fill="hold" presetClass="exit" presetID="5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6800"/>
                            </p:stCondLst>
                            <p:childTnLst>
                              <p:par>
                                <p:cTn id="205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148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198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2480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684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3184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3784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134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47340"/>
                            </p:stCondLst>
                            <p:childTnLst>
                              <p:par>
                                <p:cTn id="26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8340"/>
                            </p:stCondLst>
                            <p:childTnLst>
                              <p:par>
                                <p:cTn id="2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49340"/>
                            </p:stCondLst>
                            <p:childTnLst>
                              <p:par>
                                <p:cTn id="27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340"/>
                            </p:stCondLst>
                            <p:childTnLst>
                              <p:par>
                                <p:cTn id="2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 flipH="1" flipV="1">
            <a:off x="240840" y="235080"/>
            <a:ext cx="25560" cy="638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99880" y="6640200"/>
            <a:ext cx="8656920" cy="12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8933040" y="213840"/>
            <a:ext cx="25200" cy="6388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99880" y="199800"/>
            <a:ext cx="8643960" cy="12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5200" y="1352520"/>
            <a:ext cx="2745000" cy="2556000"/>
          </a:xfrm>
          <a:prstGeom prst="cube">
            <a:avLst>
              <a:gd name="adj" fmla="val 783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5280" y="1530360"/>
            <a:ext cx="2718000" cy="2541600"/>
          </a:xfrm>
          <a:prstGeom prst="cube">
            <a:avLst>
              <a:gd name="adj" fmla="val 783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21080" y="1731960"/>
            <a:ext cx="2744640" cy="2529000"/>
          </a:xfrm>
          <a:prstGeom prst="cube">
            <a:avLst>
              <a:gd name="adj" fmla="val 7837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5080" y="1932120"/>
            <a:ext cx="2757600" cy="2543040"/>
          </a:xfrm>
          <a:prstGeom prst="cube">
            <a:avLst>
              <a:gd name="adj" fmla="val 7837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335240" y="549360"/>
            <a:ext cx="6750000" cy="56084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49769E-006 L -0.16598 0.22456 E">
                                      <p:cBhvr>
                                        <p:cTn id="309" dur="5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48011E-006 L 0.15608 0.25347 E">
                                      <p:cBhvr>
                                        <p:cTn id="311" dur="5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0333E-006 L -0.21233 -0.11518 E">
                                      <p:cBhvr>
                                        <p:cTn id="313" dur="5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9.25069E-009 L 0.1177 -0.09135 E">
                                      <p:cBhvr>
                                        <p:cTn id="315" dur="5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770200" y="941400"/>
            <a:ext cx="1087560" cy="4270320"/>
          </a:xfrm>
          <a:custGeom>
            <a:avLst/>
            <a:gdLst/>
            <a:ahLst/>
            <a:rect l="l" t="t" r="r" b="b"/>
            <a:pathLst>
              <a:path w="710" h="2722">
                <a:moveTo>
                  <a:pt x="0" y="678"/>
                </a:moveTo>
                <a:lnTo>
                  <a:pt x="695" y="0"/>
                </a:lnTo>
                <a:lnTo>
                  <a:pt x="710" y="2036"/>
                </a:lnTo>
                <a:lnTo>
                  <a:pt x="8" y="2722"/>
                </a:lnTo>
                <a:lnTo>
                  <a:pt x="0" y="67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832200" y="952560"/>
            <a:ext cx="3625920" cy="323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313320" y="927000"/>
            <a:ext cx="1189080" cy="4321440"/>
          </a:xfrm>
          <a:custGeom>
            <a:avLst/>
            <a:gdLst/>
            <a:ahLst/>
            <a:rect l="l" t="t" r="r" b="b"/>
            <a:pathLst>
              <a:path w="710" h="2722">
                <a:moveTo>
                  <a:pt x="0" y="678"/>
                </a:moveTo>
                <a:lnTo>
                  <a:pt x="695" y="0"/>
                </a:lnTo>
                <a:lnTo>
                  <a:pt x="710" y="2036"/>
                </a:lnTo>
                <a:lnTo>
                  <a:pt x="8" y="2722"/>
                </a:lnTo>
                <a:lnTo>
                  <a:pt x="0" y="67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2782800" y="1992240"/>
            <a:ext cx="3576600" cy="324648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2730600" y="912960"/>
            <a:ext cx="4746600" cy="4336560"/>
            <a:chOff x="2730600" y="912960"/>
            <a:chExt cx="4746600" cy="4336560"/>
          </a:xfrm>
        </p:grpSpPr>
        <p:sp>
          <p:nvSpPr>
            <p:cNvPr id="236" name=""/>
            <p:cNvSpPr/>
            <p:nvPr/>
          </p:nvSpPr>
          <p:spPr>
            <a:xfrm>
              <a:off x="2735640" y="2016000"/>
              <a:ext cx="3644640" cy="323352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30600" y="914400"/>
              <a:ext cx="4734000" cy="1099440"/>
            </a:xfrm>
            <a:custGeom>
              <a:avLst/>
              <a:gdLst/>
              <a:ahLst/>
              <a:rect l="l" t="t" r="r" b="b"/>
              <a:pathLst>
                <a:path w="2982" h="695">
                  <a:moveTo>
                    <a:pt x="694" y="0"/>
                  </a:moveTo>
                  <a:lnTo>
                    <a:pt x="2982" y="24"/>
                  </a:lnTo>
                  <a:lnTo>
                    <a:pt x="2296" y="695"/>
                  </a:lnTo>
                  <a:lnTo>
                    <a:pt x="0" y="68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75600" y="912960"/>
              <a:ext cx="1101600" cy="4321080"/>
            </a:xfrm>
            <a:custGeom>
              <a:avLst/>
              <a:gdLst/>
              <a:ahLst/>
              <a:rect l="l" t="t" r="r" b="b"/>
              <a:pathLst>
                <a:path w="694" h="2730">
                  <a:moveTo>
                    <a:pt x="0" y="679"/>
                  </a:moveTo>
                  <a:lnTo>
                    <a:pt x="694" y="0"/>
                  </a:lnTo>
                  <a:lnTo>
                    <a:pt x="694" y="2052"/>
                  </a:lnTo>
                  <a:lnTo>
                    <a:pt x="8" y="2730"/>
                  </a:lnTo>
                  <a:lnTo>
                    <a:pt x="0" y="679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0" y="0"/>
            <a:ext cx="2781360" cy="702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55800" y="0"/>
            <a:ext cx="1967040" cy="1967040"/>
          </a:xfrm>
          <a:custGeom>
            <a:avLst/>
            <a:gdLst/>
            <a:ahLst/>
            <a:rect l="l" t="t" r="r" b="b"/>
            <a:pathLst>
              <a:path w="1239" h="1239">
                <a:moveTo>
                  <a:pt x="0" y="1239"/>
                </a:moveTo>
                <a:lnTo>
                  <a:pt x="1239" y="0"/>
                </a:lnTo>
                <a:lnTo>
                  <a:pt x="8" y="8"/>
                </a:lnTo>
                <a:lnTo>
                  <a:pt x="0" y="123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720880" y="914400"/>
            <a:ext cx="4746600" cy="4336560"/>
            <a:chOff x="2720880" y="914400"/>
            <a:chExt cx="4746600" cy="4336560"/>
          </a:xfrm>
        </p:grpSpPr>
        <p:sp>
          <p:nvSpPr>
            <p:cNvPr id="242" name=""/>
            <p:cNvSpPr/>
            <p:nvPr/>
          </p:nvSpPr>
          <p:spPr>
            <a:xfrm>
              <a:off x="2725920" y="2017440"/>
              <a:ext cx="3644640" cy="323352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20880" y="915840"/>
              <a:ext cx="4734000" cy="1099440"/>
            </a:xfrm>
            <a:custGeom>
              <a:avLst/>
              <a:gdLst/>
              <a:ahLst/>
              <a:rect l="l" t="t" r="r" b="b"/>
              <a:pathLst>
                <a:path w="2982" h="695">
                  <a:moveTo>
                    <a:pt x="694" y="0"/>
                  </a:moveTo>
                  <a:lnTo>
                    <a:pt x="2982" y="24"/>
                  </a:lnTo>
                  <a:lnTo>
                    <a:pt x="2296" y="695"/>
                  </a:lnTo>
                  <a:lnTo>
                    <a:pt x="0" y="68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65880" y="914400"/>
              <a:ext cx="1101600" cy="4321080"/>
            </a:xfrm>
            <a:custGeom>
              <a:avLst/>
              <a:gdLst/>
              <a:ahLst/>
              <a:rect l="l" t="t" r="r" b="b"/>
              <a:pathLst>
                <a:path w="694" h="2730">
                  <a:moveTo>
                    <a:pt x="0" y="679"/>
                  </a:moveTo>
                  <a:lnTo>
                    <a:pt x="694" y="0"/>
                  </a:lnTo>
                  <a:lnTo>
                    <a:pt x="694" y="2052"/>
                  </a:lnTo>
                  <a:lnTo>
                    <a:pt x="8" y="2730"/>
                  </a:lnTo>
                  <a:lnTo>
                    <a:pt x="0" y="679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732040" y="900000"/>
            <a:ext cx="4746600" cy="4336920"/>
            <a:chOff x="2732040" y="900000"/>
            <a:chExt cx="4746600" cy="4336920"/>
          </a:xfrm>
        </p:grpSpPr>
        <p:sp>
          <p:nvSpPr>
            <p:cNvPr id="246" name=""/>
            <p:cNvSpPr/>
            <p:nvPr/>
          </p:nvSpPr>
          <p:spPr>
            <a:xfrm>
              <a:off x="2737080" y="2003400"/>
              <a:ext cx="3644640" cy="3233520"/>
            </a:xfrm>
            <a:prstGeom prst="rect">
              <a:avLst/>
            </a:prstGeom>
            <a:solidFill>
              <a:srgbClr val="00ccff">
                <a:alpha val="9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32040" y="901440"/>
              <a:ext cx="4734000" cy="1099800"/>
            </a:xfrm>
            <a:custGeom>
              <a:avLst/>
              <a:gdLst/>
              <a:ahLst/>
              <a:rect l="l" t="t" r="r" b="b"/>
              <a:pathLst>
                <a:path w="2982" h="695">
                  <a:moveTo>
                    <a:pt x="694" y="0"/>
                  </a:moveTo>
                  <a:lnTo>
                    <a:pt x="2982" y="24"/>
                  </a:lnTo>
                  <a:lnTo>
                    <a:pt x="2296" y="695"/>
                  </a:lnTo>
                  <a:lnTo>
                    <a:pt x="0" y="68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ccff">
                <a:alpha val="95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77040" y="900000"/>
              <a:ext cx="1101600" cy="4321440"/>
            </a:xfrm>
            <a:custGeom>
              <a:avLst/>
              <a:gdLst/>
              <a:ahLst/>
              <a:rect l="l" t="t" r="r" b="b"/>
              <a:pathLst>
                <a:path w="694" h="2730">
                  <a:moveTo>
                    <a:pt x="0" y="679"/>
                  </a:moveTo>
                  <a:lnTo>
                    <a:pt x="694" y="0"/>
                  </a:lnTo>
                  <a:lnTo>
                    <a:pt x="694" y="2052"/>
                  </a:lnTo>
                  <a:lnTo>
                    <a:pt x="8" y="2730"/>
                  </a:lnTo>
                  <a:lnTo>
                    <a:pt x="0" y="679"/>
                  </a:lnTo>
                  <a:close/>
                </a:path>
              </a:pathLst>
            </a:custGeom>
            <a:solidFill>
              <a:srgbClr val="00ccff">
                <a:alpha val="95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695680" y="914400"/>
            <a:ext cx="4795200" cy="4336560"/>
            <a:chOff x="2695680" y="914400"/>
            <a:chExt cx="4795200" cy="4336560"/>
          </a:xfrm>
        </p:grpSpPr>
        <p:sp>
          <p:nvSpPr>
            <p:cNvPr id="250" name=""/>
            <p:cNvSpPr/>
            <p:nvPr/>
          </p:nvSpPr>
          <p:spPr>
            <a:xfrm>
              <a:off x="2700720" y="2017440"/>
              <a:ext cx="3682080" cy="323352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915840"/>
              <a:ext cx="4782600" cy="1099440"/>
            </a:xfrm>
            <a:custGeom>
              <a:avLst/>
              <a:gdLst/>
              <a:ahLst/>
              <a:rect l="l" t="t" r="r" b="b"/>
              <a:pathLst>
                <a:path w="2982" h="695">
                  <a:moveTo>
                    <a:pt x="694" y="0"/>
                  </a:moveTo>
                  <a:lnTo>
                    <a:pt x="2982" y="24"/>
                  </a:lnTo>
                  <a:lnTo>
                    <a:pt x="2296" y="695"/>
                  </a:lnTo>
                  <a:lnTo>
                    <a:pt x="0" y="68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78120" y="914400"/>
              <a:ext cx="1112760" cy="4321080"/>
            </a:xfrm>
            <a:custGeom>
              <a:avLst/>
              <a:gdLst/>
              <a:ahLst/>
              <a:rect l="l" t="t" r="r" b="b"/>
              <a:pathLst>
                <a:path w="694" h="2730">
                  <a:moveTo>
                    <a:pt x="0" y="679"/>
                  </a:moveTo>
                  <a:lnTo>
                    <a:pt x="694" y="0"/>
                  </a:lnTo>
                  <a:lnTo>
                    <a:pt x="694" y="2052"/>
                  </a:lnTo>
                  <a:lnTo>
                    <a:pt x="8" y="2730"/>
                  </a:lnTo>
                  <a:lnTo>
                    <a:pt x="0" y="67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2770200" y="2006640"/>
            <a:ext cx="3603600" cy="3220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364440" y="923760"/>
            <a:ext cx="1079280" cy="4321440"/>
          </a:xfrm>
          <a:custGeom>
            <a:avLst/>
            <a:gdLst/>
            <a:ahLst/>
            <a:rect l="l" t="t" r="r" b="b"/>
            <a:pathLst>
              <a:path w="694" h="2730">
                <a:moveTo>
                  <a:pt x="0" y="679"/>
                </a:moveTo>
                <a:lnTo>
                  <a:pt x="694" y="0"/>
                </a:lnTo>
                <a:lnTo>
                  <a:pt x="694" y="2052"/>
                </a:lnTo>
                <a:lnTo>
                  <a:pt x="8" y="2730"/>
                </a:lnTo>
                <a:lnTo>
                  <a:pt x="0" y="679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0280" y="0"/>
            <a:ext cx="5373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55800" y="888840"/>
            <a:ext cx="4697640" cy="1090800"/>
          </a:xfrm>
          <a:custGeom>
            <a:avLst/>
            <a:gdLst/>
            <a:ahLst/>
            <a:rect l="l" t="t" r="r" b="b"/>
            <a:pathLst>
              <a:path w="2959" h="687">
                <a:moveTo>
                  <a:pt x="663" y="0"/>
                </a:moveTo>
                <a:lnTo>
                  <a:pt x="2959" y="32"/>
                </a:lnTo>
                <a:lnTo>
                  <a:pt x="2280" y="687"/>
                </a:lnTo>
                <a:lnTo>
                  <a:pt x="0" y="687"/>
                </a:lnTo>
                <a:lnTo>
                  <a:pt x="663" y="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08320" y="2693880"/>
            <a:ext cx="27558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9900"/>
                </a:solidFill>
                <a:latin typeface="Arial"/>
              </a:rPr>
              <a:t>She exists, the friendly g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9900"/>
                </a:solidFill>
                <a:latin typeface="Arial"/>
              </a:rPr>
              <a:t>When I sleep, I see her m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9900"/>
                </a:solidFill>
                <a:latin typeface="Arial"/>
              </a:rPr>
              <a:t>I’m sure, she is my m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9900"/>
                </a:solidFill>
                <a:latin typeface="Arial"/>
              </a:rPr>
              <a:t>As friendly, there is no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9900"/>
                </a:solidFill>
                <a:latin typeface="Arial"/>
              </a:rPr>
              <a:t>Zij bestaat, de vriendelijke ge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9900"/>
                </a:solidFill>
                <a:latin typeface="Arial"/>
              </a:rPr>
              <a:t>Als ik slaap, zie ik haar me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9900"/>
                </a:solidFill>
                <a:latin typeface="Arial"/>
              </a:rPr>
              <a:t>Het is mijn moeder die ik 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9900"/>
                </a:solidFill>
                <a:latin typeface="Arial"/>
              </a:rPr>
              <a:t>Niemand die zo vriendelijk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513480" y="6275520"/>
            <a:ext cx="8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7500"/>
                            </p:stCondLst>
                            <p:childTnLst>
                              <p:par>
                                <p:cTn id="3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2500"/>
                            </p:stCondLst>
                            <p:childTnLst>
                              <p:par>
                                <p:cTn id="3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7500"/>
                            </p:stCondLst>
                            <p:childTnLst>
                              <p:par>
                                <p:cTn id="374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375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9" dur="5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2500"/>
                            </p:stCondLst>
                            <p:childTnLst>
                              <p:par>
                                <p:cTn id="381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82" dur="5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6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75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25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2743200" y="888840"/>
            <a:ext cx="4735440" cy="4356360"/>
            <a:chOff x="2743200" y="888840"/>
            <a:chExt cx="4735440" cy="4356360"/>
          </a:xfrm>
        </p:grpSpPr>
        <p:sp>
          <p:nvSpPr>
            <p:cNvPr id="260" name=""/>
            <p:cNvSpPr/>
            <p:nvPr/>
          </p:nvSpPr>
          <p:spPr>
            <a:xfrm>
              <a:off x="2749680" y="1990800"/>
              <a:ext cx="3644640" cy="32335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44640" y="888840"/>
              <a:ext cx="4734000" cy="1100160"/>
            </a:xfrm>
            <a:custGeom>
              <a:avLst/>
              <a:gdLst/>
              <a:ahLst/>
              <a:rect l="l" t="t" r="r" b="b"/>
              <a:pathLst>
                <a:path w="2982" h="695">
                  <a:moveTo>
                    <a:pt x="694" y="0"/>
                  </a:moveTo>
                  <a:lnTo>
                    <a:pt x="2982" y="24"/>
                  </a:lnTo>
                  <a:lnTo>
                    <a:pt x="2296" y="695"/>
                  </a:lnTo>
                  <a:lnTo>
                    <a:pt x="0" y="68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77040" y="923760"/>
              <a:ext cx="1101600" cy="4321440"/>
            </a:xfrm>
            <a:custGeom>
              <a:avLst/>
              <a:gdLst/>
              <a:ahLst/>
              <a:rect l="l" t="t" r="r" b="b"/>
              <a:pathLst>
                <a:path w="694" h="2730">
                  <a:moveTo>
                    <a:pt x="0" y="679"/>
                  </a:moveTo>
                  <a:lnTo>
                    <a:pt x="694" y="0"/>
                  </a:lnTo>
                  <a:lnTo>
                    <a:pt x="694" y="2052"/>
                  </a:lnTo>
                  <a:lnTo>
                    <a:pt x="8" y="2730"/>
                  </a:lnTo>
                  <a:lnTo>
                    <a:pt x="0" y="67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43200" y="914400"/>
              <a:ext cx="4697280" cy="1090440"/>
            </a:xfrm>
            <a:custGeom>
              <a:avLst/>
              <a:gdLst/>
              <a:ahLst/>
              <a:rect l="l" t="t" r="r" b="b"/>
              <a:pathLst>
                <a:path w="2959" h="687">
                  <a:moveTo>
                    <a:pt x="663" y="0"/>
                  </a:moveTo>
                  <a:lnTo>
                    <a:pt x="2959" y="32"/>
                  </a:lnTo>
                  <a:lnTo>
                    <a:pt x="2280" y="687"/>
                  </a:lnTo>
                  <a:lnTo>
                    <a:pt x="0" y="687"/>
                  </a:lnTo>
                  <a:lnTo>
                    <a:pt x="66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62640" y="939960"/>
              <a:ext cx="1116000" cy="4282920"/>
            </a:xfrm>
            <a:custGeom>
              <a:avLst/>
              <a:gdLst/>
              <a:ahLst/>
              <a:rect l="l" t="t" r="r" b="b"/>
              <a:pathLst>
                <a:path w="703" h="2698">
                  <a:moveTo>
                    <a:pt x="0" y="670"/>
                  </a:moveTo>
                  <a:lnTo>
                    <a:pt x="687" y="0"/>
                  </a:lnTo>
                  <a:lnTo>
                    <a:pt x="703" y="2036"/>
                  </a:lnTo>
                  <a:lnTo>
                    <a:pt x="8" y="2698"/>
                  </a:lnTo>
                  <a:lnTo>
                    <a:pt x="0" y="67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367320" y="927000"/>
            <a:ext cx="1101960" cy="4321440"/>
          </a:xfrm>
          <a:custGeom>
            <a:avLst/>
            <a:gdLst/>
            <a:ahLst/>
            <a:rect l="l" t="t" r="r" b="b"/>
            <a:pathLst>
              <a:path w="694" h="2730">
                <a:moveTo>
                  <a:pt x="0" y="679"/>
                </a:moveTo>
                <a:lnTo>
                  <a:pt x="694" y="0"/>
                </a:lnTo>
                <a:lnTo>
                  <a:pt x="694" y="2052"/>
                </a:lnTo>
                <a:lnTo>
                  <a:pt x="8" y="2730"/>
                </a:lnTo>
                <a:lnTo>
                  <a:pt x="0" y="67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55800" y="890640"/>
            <a:ext cx="4697640" cy="1090440"/>
          </a:xfrm>
          <a:custGeom>
            <a:avLst/>
            <a:gdLst/>
            <a:ahLst/>
            <a:rect l="l" t="t" r="r" b="b"/>
            <a:pathLst>
              <a:path w="2959" h="687">
                <a:moveTo>
                  <a:pt x="663" y="0"/>
                </a:moveTo>
                <a:lnTo>
                  <a:pt x="2959" y="32"/>
                </a:lnTo>
                <a:lnTo>
                  <a:pt x="2280" y="687"/>
                </a:lnTo>
                <a:lnTo>
                  <a:pt x="0" y="687"/>
                </a:lnTo>
                <a:lnTo>
                  <a:pt x="663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06840" y="855720"/>
            <a:ext cx="4784400" cy="1141200"/>
          </a:xfrm>
          <a:custGeom>
            <a:avLst/>
            <a:gdLst/>
            <a:ahLst/>
            <a:rect l="l" t="t" r="r" b="b"/>
            <a:pathLst>
              <a:path w="2959" h="687">
                <a:moveTo>
                  <a:pt x="663" y="0"/>
                </a:moveTo>
                <a:lnTo>
                  <a:pt x="2959" y="32"/>
                </a:lnTo>
                <a:lnTo>
                  <a:pt x="2280" y="687"/>
                </a:lnTo>
                <a:lnTo>
                  <a:pt x="0" y="687"/>
                </a:lnTo>
                <a:lnTo>
                  <a:pt x="66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49680" y="3179880"/>
            <a:ext cx="3644640" cy="2044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Open your mind, not your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Don’t be too sure and dou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Don’t believe the things that you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It is only perception, not re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Open jou geest, niet jou 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Twijfel aan  alles wat geschreven st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Twijfel aan wat je ziet, aan wat je zij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Het is alleen perceptie, niet de realit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38760" y="6362640"/>
            <a:ext cx="85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407" dur="3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5" dur="5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805200" y="1352520"/>
            <a:ext cx="2745000" cy="2556000"/>
          </a:xfrm>
          <a:prstGeom prst="cube">
            <a:avLst>
              <a:gd name="adj" fmla="val 783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35280" y="1530360"/>
            <a:ext cx="2718000" cy="2541600"/>
          </a:xfrm>
          <a:prstGeom prst="cube">
            <a:avLst>
              <a:gd name="adj" fmla="val 783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21080" y="1731960"/>
            <a:ext cx="2744640" cy="2529000"/>
          </a:xfrm>
          <a:prstGeom prst="cube">
            <a:avLst>
              <a:gd name="adj" fmla="val 7837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05080" y="1932120"/>
            <a:ext cx="2757600" cy="2543040"/>
          </a:xfrm>
          <a:prstGeom prst="cube">
            <a:avLst>
              <a:gd name="adj" fmla="val 7837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1639800" y="84240"/>
            <a:ext cx="5978520" cy="5302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 rot="5400000">
            <a:off x="-2107440" y="3077280"/>
            <a:ext cx="5680080" cy="795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What you see, is an illusion.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 rot="5400000">
            <a:off x="5635800" y="3067560"/>
            <a:ext cx="5680080" cy="795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Wat je ziet, is een illusie.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60960" y="6451560"/>
            <a:ext cx="107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439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16667E-006 9.25069E-009 L 0.1177 -0.09135 E">
                                      <p:cBhvr>
                                        <p:cTn id="440" dur="5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5.55556E-007 4.40333E-006 L -0.21233 -0.11518 E">
                                      <p:cBhvr>
                                        <p:cTn id="442" dur="5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94444E-006 -1.48011E-006 L 0.15608 0.25347 E">
                                      <p:cBhvr>
                                        <p:cTn id="444" dur="5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72222E-006 2.49769E-006 L -0.16598 0.22456 E">
                                      <p:cBhvr>
                                        <p:cTn id="446" dur="5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44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45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05200" y="1352520"/>
            <a:ext cx="2745000" cy="2556000"/>
          </a:xfrm>
          <a:prstGeom prst="cube">
            <a:avLst>
              <a:gd name="adj" fmla="val 783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35280" y="1530360"/>
            <a:ext cx="2718000" cy="2541600"/>
          </a:xfrm>
          <a:prstGeom prst="cube">
            <a:avLst>
              <a:gd name="adj" fmla="val 783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421080" y="1731960"/>
            <a:ext cx="2744640" cy="2529000"/>
          </a:xfrm>
          <a:prstGeom prst="cube">
            <a:avLst>
              <a:gd name="adj" fmla="val 7837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05080" y="1932120"/>
            <a:ext cx="2757600" cy="2543040"/>
          </a:xfrm>
          <a:prstGeom prst="cube">
            <a:avLst>
              <a:gd name="adj" fmla="val 7837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5"/>
          <a:stretch/>
        </p:blipFill>
        <p:spPr>
          <a:xfrm>
            <a:off x="1639800" y="84240"/>
            <a:ext cx="5978520" cy="530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 rot="5400000">
            <a:off x="-2107440" y="3077280"/>
            <a:ext cx="5680080" cy="795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What you see, is an illusion.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 rot="5400000">
            <a:off x="5635800" y="3067560"/>
            <a:ext cx="5680080" cy="795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Wat je ziet, is een illusie.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24440" y="6413400"/>
            <a:ext cx="73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16667E-006 9.25069E-009 L 0.1177 -0.09135 E">
                                      <p:cBhvr>
                                        <p:cTn id="470" dur="5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1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5.55556E-007 4.40333E-006 L -0.21233 -0.11518 E">
                                      <p:cBhvr>
                                        <p:cTn id="472" dur="5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94444E-006 -1.48011E-006 L 0.15608 0.25347 E">
                                      <p:cBhvr>
                                        <p:cTn id="474" dur="5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72222E-006 2.49769E-006 L -0.16598 0.22456 E">
                                      <p:cBhvr>
                                        <p:cTn id="476" dur="5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45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8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3809880" cy="3024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4134600" y="479736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Brush Script MT"/>
                <a:ea typeface="Times New Roman"/>
              </a:rPr>
              <a:t>Joz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-960480" y="5661000"/>
            <a:ext cx="90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663300"/>
                </a:solidFill>
                <a:latin typeface="Brush Script MT"/>
                <a:ea typeface="Times New Roman"/>
              </a:rPr>
              <a:t>Visitez aussi – Bezoek ook – Visit also – Besuchen Sie auc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rId2"/>
          </p:cNvPr>
          <p:cNvSpPr/>
          <p:nvPr/>
        </p:nvSpPr>
        <p:spPr>
          <a:xfrm>
            <a:off x="6732720" y="573408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993300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8459640" y="6021360"/>
            <a:ext cx="438120" cy="57168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rId4"/>
          </p:cNvPr>
          <p:cNvSpPr/>
          <p:nvPr/>
        </p:nvSpPr>
        <p:spPr>
          <a:xfrm>
            <a:off x="539640" y="6237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993300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71720" y="5950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3300"/>
                </a:solidFill>
                <a:latin typeface="Brush Script MT"/>
                <a:ea typeface="Times New Roman"/>
              </a:rPr>
              <a:t>Jef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2200" y="64911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3300"/>
                </a:solidFill>
                <a:latin typeface="Brush Script MT"/>
                <a:ea typeface="Times New Roman"/>
              </a:rPr>
              <a:t>Geo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24720" y="333360"/>
            <a:ext cx="1333440" cy="190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522200" y="504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05092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med">
    <p:zoom dir="out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4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240"/>
                            </p:stCondLst>
                            <p:childTnLst>
                              <p:par>
                                <p:cTn id="5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740"/>
                            </p:stCondLst>
                            <p:childTnLst>
                              <p:par>
                                <p:cTn id="5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2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520"/>
                            </p:stCondLst>
                            <p:childTnLst>
                              <p:par>
                                <p:cTn id="5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840"/>
                            </p:stCondLst>
                            <p:childTnLst>
                              <p:par>
                                <p:cTn id="5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340"/>
                            </p:stCondLst>
                            <p:childTnLst>
                              <p:par>
                                <p:cTn id="5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484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840"/>
                            </p:stCondLst>
                            <p:childTnLst>
                              <p:par>
                                <p:cTn id="5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7840"/>
                            </p:stCondLst>
                            <p:childTnLst>
                              <p:par>
                                <p:cTn id="54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9" dur="500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07:32:29Z</dcterms:created>
  <dc:creator> Jozef Snel</dc:creator>
  <dc:description/>
  <dc:language>en-US</dc:language>
  <cp:lastModifiedBy>Smets</cp:lastModifiedBy>
  <dcterms:modified xsi:type="dcterms:W3CDTF">2008-09-29T19:07:34Z</dcterms:modified>
  <cp:revision>33</cp:revision>
  <dc:subject/>
  <dc:title>Slide 1</dc:title>
</cp:coreProperties>
</file>