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s-VE" sz="1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FD7053-43F4-4B82-9275-D86558933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Las células indiferenciadas secretan matriz cartilaginosa y se diferencia en condrocitos. Esta matriz se mineraliza y es invadida por botones vasculares que transportan células osteoprogenitoras. Los osteoclastos producen una resorción del cartílago calcificado y los osteoblastos forman  hueso. Ejemplos son: a. formación embriologica de los huesos largos, b. crecimiento longitudinal (fisis), c. callo de fractura, d. hueso formado con matriz ósea desmineraliz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VE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E988D9-CE9A-48C6-B872-37FA2FE84A7B}" type="slidenum">
              <a:rPr b="0" lang="es-VE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Aparece sin molde de cartílago. Las células mesenquimaticas indiferenciadas se agregan formando capas o membranas, estas células se diferencian en osteoblastos y depositan una matriz orgánica que se mineraliza para formar tejido óse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VE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4A2F46-F9A9-4B01-B432-FA0F9BA31651}" type="slidenum">
              <a:rPr b="0" lang="es-VE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Los osteoblastos se alinean en la superficie ósea existente y producen hueso nue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VE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AF9F4E-1272-4AFE-A26F-C4DF4B1B03BB}" type="slidenum">
              <a:rPr b="0" lang="es-VE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F267-638D-4C51-98FF-3E98AEAEA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11A0-CED2-4090-9A28-F8377C13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6C05-D3B5-468E-9C51-2F9F3494F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47EE-1905-41B3-9530-C0815168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5A1B-2E9C-4E36-92A2-014BBD8E5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8013-8BEF-4034-A405-763BFEAA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3FD3-C349-4731-B893-64346CC5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FF08-E38A-4A6C-83AB-9BE4B239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45D2-5B03-4ED3-91D3-4AD9DA71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4E07-E938-4082-8BC1-A4428803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EFFD-FD11-4AC3-A0CB-234065AF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E348-C95C-4F8C-B0AE-DE480857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7F3C-8F53-4714-BEA0-0442A51F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90D2-AA0E-4664-88A1-05421892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6340-59C4-407E-9524-446AFDB1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6DDF-EF21-4BCB-AEF2-FEA1F266E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6230-12E1-421A-BA95-5C25DF279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521C5-B6C3-4D31-8F52-75D2C136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98D47-8166-4FC6-B2DB-497F86E0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E5638-8313-4DD4-955D-C6DA5DD1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6CF3E-E8BE-4316-A304-8F12A2DC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19C45-829A-47E3-9C16-FDD2D621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E9AE-4750-451C-8CF7-C410401E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6A704-383D-4D17-A1BA-9783322D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02BD0-B60E-409E-9CC4-0E9309A7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557B1-3901-4D27-8CEC-56EA3628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F0F8A-DBCF-45F6-8B90-6C812DBC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49283-D912-4C94-80F0-601119CE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F881D-E32C-4C52-A084-2E906DF37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D2654-ABC0-477E-A296-CFE368139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DE21-44C9-4FF9-B4AA-9E05F5F6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789A-D525-49B6-8030-08768B21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8307-0ABA-4B5D-9761-D23C6753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2708-3C0F-4CC6-B55B-ADB2677C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7857-42E3-4807-BE6C-EE3CB2FB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00D7-620E-4492-8477-FC6F0AB7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Haga clic para modificar el estilo de título del patrón</a:t>
            </a:r>
            <a:endParaRPr b="0" lang="es-VE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V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VE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V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B9A731-5C6E-41BC-85F2-32240A9B9A4A}" type="slidenum">
              <a:rPr b="0" lang="es-V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VE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s-VE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VE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s-VE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VE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s-VE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VE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s-VE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VE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s-VE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VE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s-VE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Haga clic para modificar el estilo de título del patrón</a:t>
            </a:r>
            <a:endParaRPr b="0" lang="es-VE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Haga clic para modificar el estilo de texto del patrón</a:t>
            </a: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Segundo nivel</a:t>
            </a:r>
            <a:endParaRPr b="0" lang="es-VE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Tercer nivel</a:t>
            </a:r>
            <a:endParaRPr b="0" lang="es-VE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Cuarto nivel</a:t>
            </a:r>
            <a:endParaRPr b="0" lang="es-VE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Quinto nivel</a:t>
            </a:r>
            <a:endParaRPr b="0" lang="es-VE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V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VE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V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D16322-758F-404D-94F5-36C076CA6D7C}" type="slidenum">
              <a:rPr b="0" lang="es-V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S" sz="4000" spc="-1" strike="noStrike" cap="all">
                <a:solidFill>
                  <a:srgbClr val="ffffff"/>
                </a:solidFill>
                <a:latin typeface="Calibri"/>
              </a:rPr>
              <a:t>Haga clic para modificar el estilo de título del patrón</a:t>
            </a:r>
            <a:endParaRPr b="0" lang="es-VE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Haga clic para modificar el estilo de texto del patrón</a:t>
            </a:r>
            <a:endParaRPr b="0" lang="es-VE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V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VE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V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B615E61-2694-4B42-B424-BD024001502F}" type="slidenum">
              <a:rPr b="0" lang="es-V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VE" sz="7200" spc="-1" strike="noStrike">
                <a:solidFill>
                  <a:srgbClr val="ffffff"/>
                </a:solidFill>
                <a:latin typeface="Calibri"/>
              </a:rPr>
              <a:t>Osteogenesis</a:t>
            </a:r>
            <a:endParaRPr b="0" lang="es-VE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Dr. José Ernesto Torres D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Profesor Asis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Servicio de Ortopedia Y Traumatología H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Calibri"/>
              <a:buAutoNum type="arabicPeriod"/>
            </a:pPr>
            <a:r>
              <a:rPr b="0" lang="es-VE" sz="3600" spc="-1" strike="noStrike">
                <a:solidFill>
                  <a:srgbClr val="ffffff"/>
                </a:solidFill>
                <a:latin typeface="Calibri"/>
              </a:rPr>
              <a:t>Formación del Hematoma (inflamatoria) y angiogénesis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Calibri"/>
              <a:buAutoNum type="arabicPeriod"/>
            </a:pPr>
            <a:r>
              <a:rPr b="0" lang="es-VE" sz="3600" spc="-1" strike="noStrike">
                <a:solidFill>
                  <a:srgbClr val="ffffff"/>
                </a:solidFill>
                <a:latin typeface="Calibri"/>
              </a:rPr>
              <a:t>Formación de cartílago y calcificación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Calibri"/>
              <a:buAutoNum type="arabicPeriod"/>
            </a:pPr>
            <a:r>
              <a:rPr b="0" lang="es-VE" sz="3600" spc="-1" strike="noStrike">
                <a:solidFill>
                  <a:srgbClr val="ffffff"/>
                </a:solidFill>
                <a:latin typeface="Calibri"/>
              </a:rPr>
              <a:t>Remoción del cartílago y formación de hueso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Calibri"/>
              <a:buAutoNum type="arabicPeriod"/>
            </a:pPr>
            <a:r>
              <a:rPr b="0" lang="es-VE" sz="3600" spc="-1" strike="noStrike">
                <a:solidFill>
                  <a:srgbClr val="ffffff"/>
                </a:solidFill>
                <a:latin typeface="Calibri"/>
              </a:rPr>
              <a:t>Remodelación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67640" y="404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0000"/>
          </a:bodyPr>
          <a:p>
            <a:pPr indent="0">
              <a:lnSpc>
                <a:spcPct val="100000"/>
              </a:lnSpc>
              <a:buNone/>
            </a:pPr>
            <a:r>
              <a:rPr b="0" lang="es-ES_tradnl" sz="5300" spc="-1" strike="noStrike">
                <a:solidFill>
                  <a:srgbClr val="ffffff"/>
                </a:solidFill>
                <a:latin typeface="Calibri"/>
              </a:rPr>
              <a:t>Consolidación Ósea Secundaria</a:t>
            </a:r>
            <a:br>
              <a:rPr sz="4400"/>
            </a:br>
            <a:r>
              <a:rPr b="0" lang="es-ES_tradnl" sz="4400" spc="-1" strike="noStrike">
                <a:solidFill>
                  <a:srgbClr val="ffffff"/>
                </a:solidFill>
                <a:latin typeface="Calibri"/>
              </a:rPr>
              <a:t>Etapas:</a:t>
            </a:r>
            <a:endParaRPr b="0" lang="es-VE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es-VE" sz="4400" spc="-1" strike="noStrike">
                <a:solidFill>
                  <a:srgbClr val="ffffff"/>
                </a:solidFill>
                <a:latin typeface="Calibri"/>
              </a:rPr>
              <a:t>A. Formación del hematoma e inflamación</a:t>
            </a:r>
            <a:endParaRPr b="0" lang="es-VE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Durante la inflamación se acumulan células mesenquimatosas.</a:t>
            </a: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El hematoma aporta factores de crecimiento </a:t>
            </a: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FCT-</a:t>
            </a:r>
            <a:r>
              <a:rPr b="0" lang="el-GR" sz="3200" spc="-1" strike="noStrike">
                <a:solidFill>
                  <a:srgbClr val="ffffff"/>
                </a:solidFill>
                <a:latin typeface="Calibri"/>
              </a:rPr>
              <a:t>β</a:t>
            </a: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 y FDP liberados por las plaquetas</a:t>
            </a: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FCT-</a:t>
            </a:r>
            <a:r>
              <a:rPr b="0" lang="el-GR" sz="3200" spc="-1" strike="noStrike">
                <a:solidFill>
                  <a:srgbClr val="ffffff"/>
                </a:solidFill>
                <a:latin typeface="Calibri"/>
              </a:rPr>
              <a:t>β</a:t>
            </a: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 induce la producción de proteoglicanos y colágeno tipo II</a:t>
            </a: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FDP recluta células inflamatorias</a:t>
            </a: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VE" sz="4400" spc="-1" strike="noStrike">
                <a:solidFill>
                  <a:srgbClr val="ffffff"/>
                </a:solidFill>
                <a:latin typeface="Calibri"/>
              </a:rPr>
              <a:t>Proteínas morfogeneticas</a:t>
            </a:r>
            <a:endParaRPr b="0" lang="es-VE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9760" indent="-32976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Mediadores osteoinductivos que inducen la metaplasia de células mesenquimaticas en osteoblastos</a:t>
            </a: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  <a:p>
            <a:pPr marL="329760" indent="-32976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IL-1 y IL-6 reclutan células inflamatorias que se diferencian a osteoblastos o condrocitos dependiendo de las condiciones locales como Oxigeno, pH, y estabilidad </a:t>
            </a: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  <a:p>
            <a:pPr marL="329760" indent="-32976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Este callo inicial cartilaginoso es estable a la rotación y torsión dependiendo del radio de cobertura </a:t>
            </a: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es-VE" sz="4400" spc="-1" strike="noStrike">
                <a:solidFill>
                  <a:srgbClr val="ffffff"/>
                </a:solidFill>
                <a:latin typeface="Calibri"/>
              </a:rPr>
              <a:t>B. Formación de cartílago y calcificación</a:t>
            </a:r>
            <a:endParaRPr b="0" lang="es-VE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2800" spc="-1" strike="noStrike">
                <a:solidFill>
                  <a:srgbClr val="ffffff"/>
                </a:solidFill>
                <a:latin typeface="Calibri"/>
              </a:rPr>
              <a:t>Evidencia radiológica de mineralización</a:t>
            </a:r>
            <a:endParaRPr b="0" lang="es-VE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2800" spc="-1" strike="noStrike">
                <a:solidFill>
                  <a:srgbClr val="ffffff"/>
                </a:solidFill>
                <a:latin typeface="Calibri"/>
              </a:rPr>
              <a:t>El cartílago es reemplazado por hueso fibroreticular </a:t>
            </a:r>
            <a:endParaRPr b="0" lang="es-VE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2800" spc="-1" strike="noStrike">
                <a:solidFill>
                  <a:srgbClr val="ffffff"/>
                </a:solidFill>
                <a:latin typeface="Calibri"/>
              </a:rPr>
              <a:t>El proceso de mineralización causa destrucción de los condrocitos</a:t>
            </a:r>
            <a:endParaRPr b="0" lang="es-VE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2800" spc="-1" strike="noStrike">
                <a:solidFill>
                  <a:srgbClr val="ffffff"/>
                </a:solidFill>
                <a:latin typeface="Calibri"/>
              </a:rPr>
              <a:t>Esbozos capilares  invaden el cartílago mineralizado trayendo osteoblastos </a:t>
            </a:r>
            <a:endParaRPr b="0" lang="es-VE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9" name="Picture 7" descr="figura6"/>
          <p:cNvPicPr/>
          <p:nvPr/>
        </p:nvPicPr>
        <p:blipFill>
          <a:blip r:embed="rId1"/>
          <a:stretch/>
        </p:blipFill>
        <p:spPr>
          <a:xfrm>
            <a:off x="4860000" y="4088880"/>
            <a:ext cx="2034720" cy="27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s-VE" sz="4400" spc="-1" strike="noStrike">
                <a:solidFill>
                  <a:srgbClr val="ffffff"/>
                </a:solidFill>
                <a:latin typeface="Calibri"/>
              </a:rPr>
              <a:t>C. Remoción del cartílago y Formación de hueso</a:t>
            </a:r>
            <a:endParaRPr b="0" lang="es-VE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El hueso fibroreticular debe ser reemplazado por hueso laminar, antes de iniciar el proceso de remodelación la fractura debe consolidar.</a:t>
            </a: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s-VE" sz="3600" spc="-1" strike="noStrike">
                <a:solidFill>
                  <a:srgbClr val="ffffff"/>
                </a:solidFill>
                <a:latin typeface="Calibri"/>
              </a:rPr>
              <a:t>Consolidar</a:t>
            </a: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 significa rellenar los espacios entre los fragmentos.</a:t>
            </a: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2" name="Picture 8" descr="histofoto4"/>
          <p:cNvPicPr/>
          <p:nvPr/>
        </p:nvPicPr>
        <p:blipFill>
          <a:blip r:embed="rId1"/>
          <a:stretch/>
        </p:blipFill>
        <p:spPr>
          <a:xfrm>
            <a:off x="4212000" y="4221000"/>
            <a:ext cx="317160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VE" sz="4400" spc="-1" strike="noStrike">
                <a:solidFill>
                  <a:srgbClr val="ffffff"/>
                </a:solidFill>
                <a:latin typeface="Calibri"/>
              </a:rPr>
              <a:t>D. Remodelación ósea</a:t>
            </a:r>
            <a:endParaRPr b="0" lang="es-VE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Consiste en el reemplazo del hueso fibroreticular por hueso laminar dado por un proceso simultaneo de remoción y formación de hueso mediante la participación  de osteoclastos y osteoblastos puede durar hasta 7 anos luego de producirse la consolidación y se rige por a ley de Wolff</a:t>
            </a: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Picture 5" descr="img3"/>
          <p:cNvPicPr/>
          <p:nvPr/>
        </p:nvPicPr>
        <p:blipFill>
          <a:blip r:embed="rId1"/>
          <a:stretch/>
        </p:blipFill>
        <p:spPr>
          <a:xfrm>
            <a:off x="6300360" y="4600440"/>
            <a:ext cx="2592000" cy="215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Factores circulatorios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Factores hormonales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Factores nutricionales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Factores bioeléctricos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Factores mecánicos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Factores circadianos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Factores que influyen en la consolidación</a:t>
            </a:r>
            <a:endParaRPr b="0" lang="es-VE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_tradnl" sz="5400" spc="-1" strike="noStrike">
                <a:solidFill>
                  <a:srgbClr val="ffffff"/>
                </a:solidFill>
                <a:latin typeface="Calibri"/>
              </a:rPr>
              <a:t>Complicaciones</a:t>
            </a:r>
            <a:endParaRPr b="0" lang="es-VE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4000" spc="-1" strike="noStrike">
                <a:solidFill>
                  <a:srgbClr val="ffffff"/>
                </a:solidFill>
                <a:latin typeface="Calibri"/>
              </a:rPr>
              <a:t>Retardo en la consolidación</a:t>
            </a:r>
            <a:endParaRPr b="0" lang="es-VE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4000" spc="-1" strike="noStrike">
                <a:solidFill>
                  <a:srgbClr val="ffffff"/>
                </a:solidFill>
                <a:latin typeface="Calibri"/>
              </a:rPr>
              <a:t>Consolidación viciosa</a:t>
            </a:r>
            <a:endParaRPr b="0" lang="es-VE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4000" spc="-1" strike="noStrike">
                <a:solidFill>
                  <a:srgbClr val="ffffff"/>
                </a:solidFill>
                <a:latin typeface="Calibri"/>
              </a:rPr>
              <a:t>No unión</a:t>
            </a:r>
            <a:endParaRPr b="0" lang="es-VE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_tradnl" sz="5400" spc="-1" strike="noStrike">
                <a:solidFill>
                  <a:srgbClr val="ffffff"/>
                </a:solidFill>
                <a:latin typeface="Calibri"/>
              </a:rPr>
              <a:t>Retardo de Consolidación</a:t>
            </a:r>
            <a:endParaRPr b="0" lang="es-VE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Es la falta de consolidación dentro del periodo de tiempo previsto (10ª semana)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Movilidad anormal y dolor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_tradnl" sz="5400" spc="-1" strike="noStrike">
                <a:solidFill>
                  <a:srgbClr val="ffffff"/>
                </a:solidFill>
                <a:latin typeface="Calibri"/>
              </a:rPr>
              <a:t>Consolidación viciosa</a:t>
            </a:r>
            <a:endParaRPr b="0" lang="es-VE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7640" y="1427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El proceso de consolidación se ha efectuado en forma completa logrando la unión ósea pero con un defecto en la alineación anatómica del hueso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4" name="Picture 7" descr="img33"/>
          <p:cNvPicPr/>
          <p:nvPr/>
        </p:nvPicPr>
        <p:blipFill>
          <a:blip r:embed="rId1"/>
          <a:stretch/>
        </p:blipFill>
        <p:spPr>
          <a:xfrm>
            <a:off x="6444360" y="3690360"/>
            <a:ext cx="249192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VE" sz="4400" spc="-1" strike="noStrike">
                <a:solidFill>
                  <a:srgbClr val="ffffff"/>
                </a:solidFill>
                <a:latin typeface="Calibri"/>
              </a:rPr>
              <a:t>Tipos de Formación ósea</a:t>
            </a:r>
            <a:endParaRPr b="0" lang="es-VE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Endocondral: el modelo de cartílago se sustituye por hueso</a:t>
            </a: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Calibri"/>
              </a:rPr>
              <a:t>a. formación embriologica de los huesos largos</a:t>
            </a:r>
            <a:endParaRPr b="0" lang="es-VE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Calibri"/>
              </a:rPr>
              <a:t>b. crecimiento longitudinal (fisis)</a:t>
            </a:r>
            <a:endParaRPr b="0" lang="es-VE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Calibri"/>
              </a:rPr>
              <a:t>c. callo de fractura</a:t>
            </a:r>
            <a:endParaRPr b="0" lang="es-VE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Calibri"/>
              </a:rPr>
              <a:t>d. hueso formado con matriz ósea desmineralizada</a:t>
            </a:r>
            <a:endParaRPr b="0" lang="es-VE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VE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Calibri"/>
              </a:rPr>
              <a:t>Ejemplo de alteración:  Acondroplastia</a:t>
            </a:r>
            <a:endParaRPr b="0" lang="es-VE" sz="2800" spc="-1" strike="noStrike">
              <a:solidFill>
                <a:srgbClr val="ffffff"/>
              </a:solidFill>
              <a:latin typeface="Calibri"/>
            </a:endParaRPr>
          </a:p>
          <a:p>
            <a:pPr marL="45720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VE" sz="2400" spc="-1" strike="noStrike" u="sng">
                <a:solidFill>
                  <a:srgbClr val="ffffff"/>
                </a:solidFill>
                <a:uFillTx/>
                <a:latin typeface="Calibri"/>
              </a:rPr>
              <a:t>en la zona de proliferación</a:t>
            </a:r>
            <a:endParaRPr b="0" lang="es-VE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VE" sz="5400" spc="-1" strike="noStrike">
                <a:solidFill>
                  <a:srgbClr val="ffffff"/>
                </a:solidFill>
                <a:latin typeface="Calibri"/>
              </a:rPr>
              <a:t>No unión</a:t>
            </a:r>
            <a:endParaRPr b="0" lang="es-VE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Es el estado en que todos los procesos de consolidación han cesado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Movilidad anormal sin dolor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A partir de los 6 meses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VE" sz="4400" spc="-1" strike="noStrike">
                <a:solidFill>
                  <a:srgbClr val="ffffff"/>
                </a:solidFill>
                <a:latin typeface="Calibri"/>
              </a:rPr>
              <a:t>Tipos de no Unión</a:t>
            </a:r>
            <a:endParaRPr b="0" lang="es-VE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Hipertroficas/ vasculares</a:t>
            </a:r>
            <a:endParaRPr b="0" lang="es-VE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Atróficas/ avasculares</a:t>
            </a:r>
            <a:endParaRPr b="0" lang="es-VE" sz="4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0" lang="es-VE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9" name="Picture 7" descr="Haga click para ampliar"/>
          <p:cNvPicPr/>
          <p:nvPr/>
        </p:nvPicPr>
        <p:blipFill>
          <a:blip r:embed="rId1"/>
          <a:stretch/>
        </p:blipFill>
        <p:spPr>
          <a:xfrm>
            <a:off x="1835280" y="3091680"/>
            <a:ext cx="1114200" cy="3333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Atrophic non-union of a femoral shaft fracture"/>
          <p:cNvPicPr/>
          <p:nvPr/>
        </p:nvPicPr>
        <p:blipFill>
          <a:blip r:embed="rId2"/>
          <a:stretch/>
        </p:blipFill>
        <p:spPr>
          <a:xfrm>
            <a:off x="5435640" y="3213000"/>
            <a:ext cx="271116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Mala irrigación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Diastasis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Causas del tratamiento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_tradnl" sz="5400" spc="-1" strike="noStrike">
                <a:solidFill>
                  <a:srgbClr val="ffffff"/>
                </a:solidFill>
                <a:latin typeface="Calibri"/>
              </a:rPr>
              <a:t>Causas de seudoartrosis</a:t>
            </a: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Locales</a:t>
            </a:r>
            <a:endParaRPr b="0" lang="es-VE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_tradnl" sz="4800" spc="-1" strike="noStrike">
                <a:solidFill>
                  <a:srgbClr val="ffffff"/>
                </a:solidFill>
                <a:latin typeface="Calibri"/>
              </a:rPr>
              <a:t>Causas de seudoartrosis</a:t>
            </a: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Generales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Edad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Tabaquismo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Diabetes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Tabes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Hipotiroidismo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Osteopatias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_tradnl" sz="5400" spc="-1" strike="noStrike">
                <a:solidFill>
                  <a:srgbClr val="ffffff"/>
                </a:solidFill>
                <a:latin typeface="Calibri"/>
              </a:rPr>
              <a:t>Tratamiento</a:t>
            </a:r>
            <a:endParaRPr b="0" lang="es-VE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Atróficas</a:t>
            </a:r>
            <a:endParaRPr b="0" lang="es-VE" sz="4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Aporte biológico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Hipertróficas</a:t>
            </a:r>
            <a:endParaRPr b="0" lang="es-VE" sz="4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Estabilización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0" lang="es-VE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VE" sz="4400" spc="-1" strike="noStrike">
                <a:solidFill>
                  <a:srgbClr val="ffffff"/>
                </a:solidFill>
                <a:latin typeface="Calibri"/>
              </a:rPr>
              <a:t>BIBLIOGRAFIA</a:t>
            </a:r>
            <a:endParaRPr b="0" lang="es-VE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eriod"/>
            </a:pP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Current Othopedics. Harry B. Skinner, Mc Graw Hill. Cuarta edición, 2006.</a:t>
            </a: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eriod"/>
            </a:pP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Ortopedia y Traumatología. Revisión sistemática. Mark D. Miller. Elsevier Saunders. Quinta edición. 2009.</a:t>
            </a: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s-VE" sz="2800" spc="-1" strike="noStrike" cap="all">
                <a:solidFill>
                  <a:srgbClr val="ffffff"/>
                </a:solidFill>
                <a:latin typeface="Calibri"/>
              </a:rPr>
              <a:t>Nos vemos en el hospital</a:t>
            </a:r>
            <a:endParaRPr b="0" lang="es-VE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0" lang="es-VE" sz="8000" spc="-1" strike="noStrike">
                <a:solidFill>
                  <a:srgbClr val="ffffff"/>
                </a:solidFill>
                <a:latin typeface="Calibri"/>
              </a:rPr>
              <a:t>Gracias</a:t>
            </a:r>
            <a:endParaRPr b="0" lang="es-VE" sz="8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VE" sz="4400" spc="-1" strike="noStrike">
                <a:solidFill>
                  <a:srgbClr val="ffffff"/>
                </a:solidFill>
                <a:latin typeface="Calibri"/>
              </a:rPr>
              <a:t>Osificación intramembanosa</a:t>
            </a:r>
            <a:endParaRPr b="0" lang="es-VE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Agregados de células mesenquimaticas indiferenciadas  que se diferencian en osteoblastos formando hueso</a:t>
            </a: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2400" spc="-1" strike="noStrike">
                <a:solidFill>
                  <a:srgbClr val="ffffff"/>
                </a:solidFill>
                <a:latin typeface="Calibri"/>
              </a:rPr>
              <a:t>Formación embriologica de los huesos planos</a:t>
            </a:r>
            <a:endParaRPr b="0" lang="es-VE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2400" spc="-1" strike="noStrike">
                <a:solidFill>
                  <a:srgbClr val="ffffff"/>
                </a:solidFill>
                <a:latin typeface="Calibri"/>
              </a:rPr>
              <a:t>Formación ósea durante la osteogenesis por distracción</a:t>
            </a:r>
            <a:endParaRPr b="0" lang="es-VE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2400" spc="-1" strike="noStrike">
                <a:solidFill>
                  <a:srgbClr val="ffffff"/>
                </a:solidFill>
                <a:latin typeface="Calibri"/>
              </a:rPr>
              <a:t>Hueso blastema (posterior a una amputación)</a:t>
            </a:r>
            <a:endParaRPr b="0" lang="es-VE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Calibri"/>
              </a:rPr>
              <a:t>Disostosis Cleidocraneal</a:t>
            </a:r>
            <a:endParaRPr b="0" lang="es-VE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Picture 9" descr="901024"/>
          <p:cNvPicPr/>
          <p:nvPr/>
        </p:nvPicPr>
        <p:blipFill>
          <a:blip r:embed="rId1"/>
          <a:stretch/>
        </p:blipFill>
        <p:spPr>
          <a:xfrm>
            <a:off x="1043640" y="4653000"/>
            <a:ext cx="1428480" cy="2037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901025"/>
          <p:cNvPicPr/>
          <p:nvPr/>
        </p:nvPicPr>
        <p:blipFill>
          <a:blip r:embed="rId2"/>
          <a:stretch/>
        </p:blipFill>
        <p:spPr>
          <a:xfrm>
            <a:off x="6948360" y="4653000"/>
            <a:ext cx="1418760" cy="20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VE" sz="4400" spc="-1" strike="noStrike">
                <a:solidFill>
                  <a:srgbClr val="ffffff"/>
                </a:solidFill>
                <a:latin typeface="Calibri"/>
              </a:rPr>
              <a:t>Osificación por aposición</a:t>
            </a:r>
            <a:endParaRPr b="0" lang="es-VE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Los osteoblastos depositan hueso nuevo sobe el existente</a:t>
            </a: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2800" spc="-1" strike="noStrike">
                <a:solidFill>
                  <a:srgbClr val="ffffff"/>
                </a:solidFill>
                <a:latin typeface="Calibri"/>
              </a:rPr>
              <a:t>Aumento del tamaño en periostio (grosor)</a:t>
            </a:r>
            <a:endParaRPr b="0" lang="es-VE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2800" spc="-1" strike="noStrike">
                <a:solidFill>
                  <a:srgbClr val="ffffff"/>
                </a:solidFill>
                <a:latin typeface="Calibri"/>
              </a:rPr>
              <a:t>Fase de formación ósea de la remodelación</a:t>
            </a:r>
            <a:endParaRPr b="0" lang="es-VE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Calibri"/>
              </a:rPr>
              <a:t>Enfermedad de Paget</a:t>
            </a:r>
            <a:endParaRPr b="0" lang="es-VE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Calibri"/>
              </a:rPr>
              <a:t>Hiperostosis infantil (E. de Caffey)</a:t>
            </a:r>
            <a:endParaRPr b="0" lang="es-VE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Calibri"/>
              </a:rPr>
              <a:t>Mielorreostosis</a:t>
            </a:r>
            <a:endParaRPr b="0" lang="es-VE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9000"/>
          </a:bodyPr>
          <a:p>
            <a:pPr indent="0" algn="ctr">
              <a:lnSpc>
                <a:spcPct val="100000"/>
              </a:lnSpc>
              <a:buNone/>
            </a:pPr>
            <a:r>
              <a:rPr b="0" lang="es-VE" sz="5400" spc="-1" strike="noStrike">
                <a:solidFill>
                  <a:srgbClr val="ffffff"/>
                </a:solidFill>
                <a:latin typeface="Calibri"/>
              </a:rPr>
              <a:t>Consolidación de las fracturas</a:t>
            </a:r>
            <a:endParaRPr b="0" lang="es-VE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Proceso biológico regulado por factores bioquímicos y celulares que conlleva a la curación de las fracturas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VE" sz="6000" spc="-1" strike="noStrike">
                <a:solidFill>
                  <a:srgbClr val="ffffff"/>
                </a:solidFill>
                <a:latin typeface="Calibri"/>
              </a:rPr>
              <a:t>Caracteristicas</a:t>
            </a:r>
            <a:endParaRPr b="0" lang="es-VE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4000" spc="-1" strike="noStrike">
                <a:solidFill>
                  <a:srgbClr val="ffffff"/>
                </a:solidFill>
                <a:latin typeface="Calibri"/>
              </a:rPr>
              <a:t>Restauración que se completa sin la formación de cicatriz</a:t>
            </a:r>
            <a:endParaRPr b="0" lang="es-VE" sz="4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0" lang="es-VE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VE" sz="7200" spc="-1" strike="noStrike">
                <a:solidFill>
                  <a:srgbClr val="ffffff"/>
                </a:solidFill>
                <a:latin typeface="Calibri"/>
              </a:rPr>
              <a:t>Requisitos</a:t>
            </a:r>
            <a:endParaRPr b="0" lang="es-VE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4000" spc="-1" strike="noStrike" u="sng">
                <a:solidFill>
                  <a:srgbClr val="ffffff"/>
                </a:solidFill>
                <a:uFillTx/>
                <a:latin typeface="Calibri"/>
              </a:rPr>
              <a:t>Buena irrigación sanguínea</a:t>
            </a:r>
            <a:endParaRPr b="0" lang="es-VE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4000" spc="-1" strike="noStrike">
                <a:solidFill>
                  <a:srgbClr val="ffffff"/>
                </a:solidFill>
                <a:latin typeface="Calibri"/>
              </a:rPr>
              <a:t>Adecuada estabilidad mecánica</a:t>
            </a:r>
            <a:endParaRPr b="0" lang="es-VE" sz="4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s-VE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VE" sz="6600" spc="-1" strike="noStrike">
                <a:solidFill>
                  <a:srgbClr val="ffffff"/>
                </a:solidFill>
                <a:latin typeface="Calibri"/>
              </a:rPr>
              <a:t>Tipos</a:t>
            </a:r>
            <a:endParaRPr b="0" lang="es-VE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4400" spc="-1" strike="noStrike">
                <a:solidFill>
                  <a:srgbClr val="ffffff"/>
                </a:solidFill>
                <a:latin typeface="Calibri"/>
              </a:rPr>
              <a:t>Primaria</a:t>
            </a:r>
            <a:endParaRPr b="0" lang="es-VE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4400" spc="-1" strike="noStrike">
                <a:solidFill>
                  <a:srgbClr val="ffffff"/>
                </a:solidFill>
                <a:latin typeface="Calibri"/>
              </a:rPr>
              <a:t>Secundaria</a:t>
            </a:r>
            <a:endParaRPr b="0" lang="es-VE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es-ES_tradnl" sz="4900" spc="-1" strike="noStrike">
                <a:solidFill>
                  <a:srgbClr val="ffffff"/>
                </a:solidFill>
                <a:latin typeface="Calibri"/>
              </a:rPr>
              <a:t>Consolidación Ósea Primaria</a:t>
            </a:r>
            <a:br>
              <a:rPr sz="4400"/>
            </a:b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haversiana u osteonal</a:t>
            </a:r>
            <a:endParaRPr b="0" lang="es-VE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s-ES_tradnl" sz="3200" spc="-1" strike="noStrike">
                <a:solidFill>
                  <a:srgbClr val="ffffff"/>
                </a:solidFill>
                <a:latin typeface="Calibri"/>
              </a:rPr>
              <a:t>No tiene formación de callo óseo</a:t>
            </a: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s-ES_tradnl" sz="3200" spc="-1" strike="noStrike">
                <a:solidFill>
                  <a:srgbClr val="ffffff"/>
                </a:solidFill>
                <a:latin typeface="Calibri"/>
              </a:rPr>
              <a:t>Se logra con fijación interna rígida</a:t>
            </a: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9" name="Picture 5" descr="Fractura pertrocanterea fèmur"/>
          <p:cNvPicPr/>
          <p:nvPr/>
        </p:nvPicPr>
        <p:blipFill>
          <a:blip r:embed="rId1"/>
          <a:stretch/>
        </p:blipFill>
        <p:spPr>
          <a:xfrm>
            <a:off x="1043640" y="3213000"/>
            <a:ext cx="2139480" cy="2852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Fractura pertrocanterea fèmur"/>
          <p:cNvPicPr/>
          <p:nvPr/>
        </p:nvPicPr>
        <p:blipFill>
          <a:blip r:embed="rId2"/>
          <a:stretch/>
        </p:blipFill>
        <p:spPr>
          <a:xfrm>
            <a:off x="4411800" y="3213000"/>
            <a:ext cx="219348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ma de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ma de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Tema de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  <Words>724</Words>
  <Paragraphs>114</Paragraphs>
  <Company>Peronal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2T02:01:00Z</dcterms:created>
  <dc:creator>Jose Torres</dc:creator>
  <dc:description/>
  <dc:language>en-US</dc:language>
  <cp:lastModifiedBy>Jose Torres</cp:lastModifiedBy>
  <dcterms:modified xsi:type="dcterms:W3CDTF">2012-11-22T10:59:39Z</dcterms:modified>
  <cp:revision>24</cp:revision>
  <dc:subject/>
  <dc:title>Osteogene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Presentación en pantalla (4:3)</vt:lpwstr>
  </property>
  <property fmtid="{D5CDD505-2E9C-101B-9397-08002B2CF9AE}" pid="4" name="Slides">
    <vt:r8>26</vt:r8>
  </property>
</Properties>
</file>