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VE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D581B-442E-45B1-ADC9-3CACEA31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Las células indiferenciadas secretan matriz cartilaginosa y se diferencia en condrocitos. Esta matriz se mineraliza y es invadida por botones vasculares que transportan células osteoprogenitoras. Los osteoclastos producen una resorción del cartílago calcificado y los osteoblastos forman  hueso. Ejemplos son: a. formación embriologica de los huesos largos, b. crecimiento longitudinal (fisis), c. callo de fractura, d. hueso formado con matriz ósea desmine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551B39-1290-4BE0-A43E-817A6C770EC4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parece sin molde de cartílago. Las células mesenquimaticas indiferenciadas se agregan formando capas o membranas, estas células se diferencian en osteoblastos y depositan una matriz orgánica que se mineraliza para formar tejido ós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7827C-DCC6-43C9-A5E3-4B9A5DF027AF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Los osteoblastos se alinean en la superficie ósea existente y producen hueso n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40B752-FA46-4649-907E-E846E94598F7}" type="slidenum">
              <a:rPr b="0" lang="es-V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EC2-5839-472E-A5C0-EA98F47C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643-EF99-4668-8FEE-80EFDA19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116-C87F-4A54-91ED-694EAD4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E9C-7520-43A4-87B0-AB481D36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321C-A344-4435-876F-1E0B1373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8BB-FC75-47B8-BE58-E7F8F50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8F75-C03F-42F9-B6B9-971F4E2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C24F-8C65-476D-8AD4-3EE70DB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87E7-6DB2-46F1-85A4-38780F52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6A3-77F2-4524-8EBB-91952911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D600-CAFF-41BB-86C8-000E2DE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09C-62D0-4AA1-9266-6674022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C29-559E-4726-B00B-36B9AE9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8A9-BC00-4713-B611-4AEA69C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1068-8D6E-47AC-B0FA-3E8BC7CF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F9BF-2072-4430-B334-8A344BCC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684B-415D-4A93-8420-99364414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C115-15A3-4D0A-87B8-80200CF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3787-32E3-4505-B619-441BED4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1F1D-D64D-4C92-B128-CC6C793D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BBB2-F35E-4F19-8E7E-32F24F3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8CC2-797B-4997-9944-89F38082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1FC-D1D6-4A05-A449-485DCC6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C94C-F005-46F1-8F61-76049A0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C26D-8FC2-4C6E-A148-30F4BA3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8C57-0182-4518-8CB7-251A146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569A-06EE-4F8A-B9CA-597B91B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906D-FC4C-4616-958E-174122FE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B9C1-45D1-4E8E-9ADD-6B8A84CF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911B-518C-4C97-B3C0-ECEB5564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EDB-3555-4EA7-92F1-7718836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B93-2BAA-41E2-BF92-5A68950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A0D-5FC2-440F-8716-BDA0773C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8E5-5DE0-4972-9E4F-484AF37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E1A-7399-4F4F-9B18-1897E72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VE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309-4F60-41E5-A5DD-E4BB096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4C798A-A29C-42A0-A3A5-E40BB7710826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VE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ga clic para modificar el estilo de texto del patrón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undo nive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Tercer nivel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uarto ni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Quinto nivel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083B5B-D327-4039-A8F4-E221A411A656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000" spc="-1" strike="noStrike" cap="all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Haga clic para modificar el estilo de texto del patrón</a:t>
            </a:r>
            <a:endParaRPr b="0" lang="es-VE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V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V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80A8E9-3F48-492F-AF1F-2F10445FE16C}" type="slidenum">
              <a:rPr b="0" lang="es-V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7200" spc="-1" strike="noStrike">
                <a:solidFill>
                  <a:srgbClr val="ffffff"/>
                </a:solidFill>
                <a:latin typeface="Calibri"/>
              </a:rPr>
              <a:t>Osteogenesis</a:t>
            </a:r>
            <a:endParaRPr b="0" lang="es-VE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Dr. José Ernesto Torres D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Profesor A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Servicio de Ortopedia Y Traumatología H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Formación del Hematoma (inflamatoria) y angiogénesi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Formación de cartílago y calcific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Remoción del cartílago y formación de hues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600" spc="-1" strike="noStrike">
                <a:solidFill>
                  <a:srgbClr val="ffffff"/>
                </a:solidFill>
                <a:latin typeface="Calibri"/>
              </a:rPr>
              <a:t>Remodel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0" lang="es-ES_tradnl" sz="5300" spc="-1" strike="noStrike">
                <a:solidFill>
                  <a:srgbClr val="ffffff"/>
                </a:solidFill>
                <a:latin typeface="Calibri"/>
              </a:rPr>
              <a:t>Consolidación Ósea Secundari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Etapas: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A. Formación del hematoma e inflama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Durante la inflamación se acumulan células mesenquimatosas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l hematoma aporta factores de crecimiento 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CT-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y FDP liberados por las plaqueta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CT-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induce la producción de proteoglicanos y colágeno tipo II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FDP recluta células inflamatoria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Proteínas morfogeneticas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Mediadores osteoinductivos que inducen la metaplasia de células mesenquimaticas en osteoblastos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IL-1 y IL-6 reclutan células inflamatorias que se diferencian a osteoblastos o condrocitos dependiendo de las condiciones locales como Oxigeno, pH, y estabilidad 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ste callo inicial cartilaginoso es estable a la rotación y torsión dependiendo del radio de cobertura 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B. Formación de cartílago y calcifica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videncia radiológica de mineralización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l cartílago es reemplazado por hueso fibroreticular 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l proceso de mineralización causa destrucción de los condrocitos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sbozos capilares  invaden el cartílago mineralizado trayendo osteoblastos 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7" descr="figura6"/>
          <p:cNvPicPr/>
          <p:nvPr/>
        </p:nvPicPr>
        <p:blipFill>
          <a:blip r:embed="rId1"/>
          <a:stretch/>
        </p:blipFill>
        <p:spPr>
          <a:xfrm>
            <a:off x="4860000" y="4088880"/>
            <a:ext cx="2034720" cy="2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C. Remoción del cartílago y Formación de hueso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l hueso fibroreticular debe ser reemplazado por hueso laminar, antes de iniciar el proceso de remodelación la fractura debe consolidar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Calibri"/>
              </a:rPr>
              <a:t>Consolidar</a:t>
            </a: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 significa rellenar los espacios entre los fragmentos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histofoto4"/>
          <p:cNvPicPr/>
          <p:nvPr/>
        </p:nvPicPr>
        <p:blipFill>
          <a:blip r:embed="rId1"/>
          <a:stretch/>
        </p:blipFill>
        <p:spPr>
          <a:xfrm>
            <a:off x="4212000" y="4221000"/>
            <a:ext cx="3171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D. Remodelación óse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onsiste en el reemplazo del hueso fibroreticular por hueso laminar dado por un proceso simultaneo de remoción y formación de hueso mediante la participación  de osteoclastos y osteoblastos puede durar hasta 7 anos luego de producirse la consolidación y se rige por a ley de Wolff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img3"/>
          <p:cNvPicPr/>
          <p:nvPr/>
        </p:nvPicPr>
        <p:blipFill>
          <a:blip r:embed="rId1"/>
          <a:stretch/>
        </p:blipFill>
        <p:spPr>
          <a:xfrm>
            <a:off x="6300360" y="4600440"/>
            <a:ext cx="259200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circulatori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hormon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nutricion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bioeléctric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mecánic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Factores circadiano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Factores que influyen en la consolidac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Complicaciones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Retardo en la consolidac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Consolidación vicios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No unión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Retardo de Consolidación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 la falta de consolidación dentro del periodo de tiempo previsto (10ª semana)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ovilidad anormal y dolor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_tradnl" sz="5400" spc="-1" strike="noStrike">
                <a:solidFill>
                  <a:srgbClr val="ffffff"/>
                </a:solidFill>
                <a:latin typeface="Calibri"/>
              </a:rPr>
              <a:t>Consolidación viciosa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7640" y="142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l proceso de consolidación se ha efectuado en forma completa logrando la unión ósea pero con un defecto en la alineación anatómica del hues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7" descr="img33"/>
          <p:cNvPicPr/>
          <p:nvPr/>
        </p:nvPicPr>
        <p:blipFill>
          <a:blip r:embed="rId1"/>
          <a:stretch/>
        </p:blipFill>
        <p:spPr>
          <a:xfrm>
            <a:off x="6444360" y="3690360"/>
            <a:ext cx="24919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Tipos de Formación óse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Endocondral: el modelo de cartílago se sustituye por hues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a. formación embriologica de los huesos largos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b. crecimiento longitudinal (fisis)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c. callo de fractura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d. hueso formado con matriz ósea desmineralizada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Ejemplo de alteración:  Acondroplastia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VE" sz="2400" spc="-1" strike="noStrike" u="sng">
                <a:solidFill>
                  <a:srgbClr val="ffffff"/>
                </a:solidFill>
                <a:uFillTx/>
                <a:latin typeface="Calibri"/>
              </a:rPr>
              <a:t>en la zona de proliferación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5400" spc="-1" strike="noStrike">
                <a:solidFill>
                  <a:srgbClr val="ffffff"/>
                </a:solidFill>
                <a:latin typeface="Calibri"/>
              </a:rPr>
              <a:t>No unión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 el estado en que todos los procesos de consolidación han cesad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ovilidad anormal sin dolor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A partir de los 6 mes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Tipos de no Un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ipertroficas/ vascular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tróficas/ avascular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Picture 7" descr="Haga click para ampliar"/>
          <p:cNvPicPr/>
          <p:nvPr/>
        </p:nvPicPr>
        <p:blipFill>
          <a:blip r:embed="rId1"/>
          <a:stretch/>
        </p:blipFill>
        <p:spPr>
          <a:xfrm>
            <a:off x="1835280" y="3091680"/>
            <a:ext cx="1114200" cy="333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Atrophic non-union of a femoral shaft fracture"/>
          <p:cNvPicPr/>
          <p:nvPr/>
        </p:nvPicPr>
        <p:blipFill>
          <a:blip r:embed="rId2"/>
          <a:stretch/>
        </p:blipFill>
        <p:spPr>
          <a:xfrm>
            <a:off x="5435640" y="3213000"/>
            <a:ext cx="271116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ala irrig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Diastasi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Causas del tratamient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Causas de seudoartrosi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Locale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Causas de seudoartrosi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General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dad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Tabaquism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Diabet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Tabe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Hipotiroidism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Osteopatia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5400" spc="-1" strike="noStrike">
                <a:solidFill>
                  <a:srgbClr val="ffffff"/>
                </a:solidFill>
                <a:latin typeface="Calibri"/>
              </a:rPr>
              <a:t>Tratamiento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Atrófica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Aporte biológico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ipertróficas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Estabilización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BIBLIOGRAF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Current Othopedics. Harry B. Skinner, Mc Graw Hill. Cuarta edición, 2006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eriod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Ortopedia y Traumatología. Revisión sistemática. Mark D. Miller. Elsevier Saunders. Quinta edición. 2009.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s-VE" sz="2800" spc="-1" strike="noStrike" cap="all">
                <a:solidFill>
                  <a:srgbClr val="ffffff"/>
                </a:solidFill>
                <a:latin typeface="Calibri"/>
              </a:rPr>
              <a:t>Nos vemos en el hospita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es-VE" sz="8000" spc="-1" strike="noStrike">
                <a:solidFill>
                  <a:srgbClr val="ffffff"/>
                </a:solidFill>
                <a:latin typeface="Calibri"/>
              </a:rPr>
              <a:t>Gracias</a:t>
            </a:r>
            <a:endParaRPr b="0" lang="es-VE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Osificación intramembanos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Agregados de células mesenquimaticas indiferenciadas  que se diferencian en osteoblastos formando hues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Formación embriologica de los huesos planos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Formación ósea durante la osteogenesis por distracción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400" spc="-1" strike="noStrike">
                <a:solidFill>
                  <a:srgbClr val="ffffff"/>
                </a:solidFill>
                <a:latin typeface="Calibri"/>
              </a:rPr>
              <a:t>Hueso blastema (posterior a una amputación)</a:t>
            </a:r>
            <a:endParaRPr b="0" lang="es-VE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Disostosis Cleidocraneal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9" descr="901024"/>
          <p:cNvPicPr/>
          <p:nvPr/>
        </p:nvPicPr>
        <p:blipFill>
          <a:blip r:embed="rId1"/>
          <a:stretch/>
        </p:blipFill>
        <p:spPr>
          <a:xfrm>
            <a:off x="1043640" y="4653000"/>
            <a:ext cx="1428480" cy="20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901025"/>
          <p:cNvPicPr/>
          <p:nvPr/>
        </p:nvPicPr>
        <p:blipFill>
          <a:blip r:embed="rId2"/>
          <a:stretch/>
        </p:blipFill>
        <p:spPr>
          <a:xfrm>
            <a:off x="6948360" y="4653000"/>
            <a:ext cx="1418760" cy="20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Osificación por aposición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3200" spc="-1" strike="noStrike">
                <a:solidFill>
                  <a:srgbClr val="ffffff"/>
                </a:solidFill>
                <a:latin typeface="Calibri"/>
              </a:rPr>
              <a:t>Los osteoblastos depositan hueso nuevo sobe el existente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Aumento del tamaño en periostio (grosor)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2800" spc="-1" strike="noStrike">
                <a:solidFill>
                  <a:srgbClr val="ffffff"/>
                </a:solidFill>
                <a:latin typeface="Calibri"/>
              </a:rPr>
              <a:t>Fase de formación ósea de la remodelación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Enfermedad de Paget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Hiperostosis infantil (E. de Caffey)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Calibri"/>
              </a:rPr>
              <a:t>Mielorreostosis</a:t>
            </a:r>
            <a:endParaRPr b="0" lang="es-VE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5400" spc="-1" strike="noStrike">
                <a:solidFill>
                  <a:srgbClr val="ffffff"/>
                </a:solidFill>
                <a:latin typeface="Calibri"/>
              </a:rPr>
              <a:t>Consolidación de las fracturas</a:t>
            </a:r>
            <a:endParaRPr b="0" lang="es-VE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Proceso biológico regulado por factores bioquímicos y celulares que conlleva a la curación de las fracturas</a:t>
            </a: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s-VE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6000" spc="-1" strike="noStrike">
                <a:solidFill>
                  <a:srgbClr val="ffffff"/>
                </a:solidFill>
                <a:latin typeface="Calibri"/>
              </a:rPr>
              <a:t>Caracteristicas</a:t>
            </a:r>
            <a:endParaRPr b="0" lang="es-VE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Restauración que se completa sin la formación de cicatriz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7200" spc="-1" strike="noStrike">
                <a:solidFill>
                  <a:srgbClr val="ffffff"/>
                </a:solidFill>
                <a:latin typeface="Calibri"/>
              </a:rPr>
              <a:t>Requisitos</a:t>
            </a:r>
            <a:endParaRPr b="0" lang="es-VE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 u="sng">
                <a:solidFill>
                  <a:srgbClr val="ffffff"/>
                </a:solidFill>
                <a:uFillTx/>
                <a:latin typeface="Calibri"/>
              </a:rPr>
              <a:t>Buena irrigación sanguíne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000" spc="-1" strike="noStrike">
                <a:solidFill>
                  <a:srgbClr val="ffffff"/>
                </a:solidFill>
                <a:latin typeface="Calibri"/>
              </a:rPr>
              <a:t>Adecuada estabilidad mecánica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VE" sz="6600" spc="-1" strike="noStrike">
                <a:solidFill>
                  <a:srgbClr val="ffffff"/>
                </a:solidFill>
                <a:latin typeface="Calibri"/>
              </a:rPr>
              <a:t>Tipos</a:t>
            </a:r>
            <a:endParaRPr b="0" lang="es-VE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Primar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Font typeface="Arial"/>
              <a:buChar char="•"/>
            </a:pPr>
            <a:r>
              <a:rPr b="0" lang="es-VE" sz="4400" spc="-1" strike="noStrike">
                <a:solidFill>
                  <a:srgbClr val="ffffff"/>
                </a:solidFill>
                <a:latin typeface="Calibri"/>
              </a:rPr>
              <a:t>Secundaria</a:t>
            </a:r>
            <a:endParaRPr b="0" lang="es-VE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900" spc="-1" strike="noStrike">
                <a:solidFill>
                  <a:srgbClr val="ffffff"/>
                </a:solidFill>
                <a:latin typeface="Calibri"/>
              </a:rPr>
              <a:t>Consolidación Ósea Primaria</a:t>
            </a:r>
            <a:br>
              <a:rPr sz="4400"/>
            </a:b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haversiana u osteonal</a:t>
            </a:r>
            <a:endParaRPr b="0" lang="es-VE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No tiene formación de callo óseo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Se logra con fijación interna rígida</a:t>
            </a:r>
            <a:endParaRPr b="0" lang="es-VE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5" descr="Fractura pertrocanterea fèmur"/>
          <p:cNvPicPr/>
          <p:nvPr/>
        </p:nvPicPr>
        <p:blipFill>
          <a:blip r:embed="rId1"/>
          <a:stretch/>
        </p:blipFill>
        <p:spPr>
          <a:xfrm>
            <a:off x="1043640" y="3213000"/>
            <a:ext cx="2139480" cy="28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ractura pertrocanterea fèmur"/>
          <p:cNvPicPr/>
          <p:nvPr/>
        </p:nvPicPr>
        <p:blipFill>
          <a:blip r:embed="rId2"/>
          <a:stretch/>
        </p:blipFill>
        <p:spPr>
          <a:xfrm>
            <a:off x="4411800" y="3213000"/>
            <a:ext cx="2193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  <Words>724</Words>
  <Paragraphs>114</Paragraphs>
  <Company>Per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2:01:00Z</dcterms:created>
  <dc:creator>Jose Torres</dc:creator>
  <dc:description/>
  <dc:language>en-US</dc:language>
  <cp:lastModifiedBy>Jose Torres</cp:lastModifiedBy>
  <dcterms:modified xsi:type="dcterms:W3CDTF">2012-11-22T10:59:39Z</dcterms:modified>
  <cp:revision>24</cp:revision>
  <dc:subject/>
  <dc:title>Osteogen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6</vt:r8>
  </property>
</Properties>
</file>