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7.gif" ContentType="image/gif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31.gif" ContentType="image/gif"/>
  <Override PartName="/ppt/media/image24.png" ContentType="image/png"/>
  <Override PartName="/ppt/media/image14.png" ContentType="image/png"/>
  <Override PartName="/ppt/media/image22.gif" ContentType="image/gif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BFCA-0B06-4CC4-B8C1-CE1845B05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9CBC-70D5-4ABF-AA50-9D80BC3B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8A11-AE52-4EE5-8CA9-448DCF8E1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7193-491B-4FD2-8301-B1785A92B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E089-6C7F-4958-8028-0B8F5C3EB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6397-E83C-4C25-9887-AA2818A6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6F53-A586-40E4-9C3E-09EB8D32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4F6A-C227-4C51-9132-1AFCE36E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293F-05A1-4849-BDD0-C8CE289A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D47E-A9E5-472E-BAE5-EC201C1A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49B0-6AE3-4F26-8BA5-47676C67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2349-90EB-42CF-819F-54E85E4F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37CA-2920-447B-BC05-4E22DB95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50CC-EDC1-4CE9-B873-2DC8A68E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4143-4F3F-4A7F-8922-5F9457D5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7467-FB92-4C69-9598-C171753AD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BF2C-3A28-4198-9917-A22CF0C3C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87FB-A5C5-4615-82BB-CE035C20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2FD5-F118-4BA6-9357-F463C5A1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70D1-4368-45ED-B679-B83B6415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DBF6-A9CA-4388-A968-17F95B60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8998-8A18-434D-A960-3D3D9A5F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4444-F416-4891-AACD-E32A1E6C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8E78-9266-421B-B6D0-B74D5ACF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8AFE-F8D0-4AA3-80C7-0453C57ECB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321C-CDBE-474B-801E-004127B1F2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nglishtips.org/" TargetMode="External"/><Relationship Id="rId2" Type="http://schemas.openxmlformats.org/officeDocument/2006/relationships/hyperlink" Target="http://cnx.org/" TargetMode="External"/><Relationship Id="rId3" Type="http://schemas.openxmlformats.org/officeDocument/2006/relationships/hyperlink" Target="http://ocw.mit.edu/" TargetMode="External"/><Relationship Id="rId4" Type="http://schemas.openxmlformats.org/officeDocument/2006/relationships/hyperlink" Target="http://www.vocw.edu.vn/" TargetMode="External"/><Relationship Id="rId5" Type="http://schemas.openxmlformats.org/officeDocument/2006/relationships/hyperlink" Target="http://www.bbc.co.uk/worldservice/learningenglish/" TargetMode="External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599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ICT for ELT in Vietnam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Dang Xuan Th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Hanoi Univers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oi, 14 November, 200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705720" y="609480"/>
            <a:ext cx="1814400" cy="1290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295280" y="695160"/>
            <a:ext cx="110016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WNLOAD MATERI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240" y="1981080"/>
            <a:ext cx="529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ownload softwa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sh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ga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M –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download manag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629400" y="2017800"/>
            <a:ext cx="2325600" cy="4114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324480" y="3200400"/>
            <a:ext cx="2743200" cy="2514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886200" y="2514600"/>
            <a:ext cx="633240" cy="657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3200400" y="3124080"/>
            <a:ext cx="762120" cy="544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2590920" y="363852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876320" y="4611600"/>
            <a:ext cx="790560" cy="646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7391520" y="2666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E MATERI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d-processed hando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point presentations (texts + images + audio + vide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dio materi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deo materi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086600" y="457200"/>
            <a:ext cx="1600200" cy="1295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343400" y="5029200"/>
            <a:ext cx="1227240" cy="1295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943600" y="365760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E MATERI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o-editing software: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Cool Edit Pro 2.0, Sound Forge, Gold Wave, Jet Audio …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deo-editing software: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CyberLink PowerDirector, Premiere, Ulead, Windows Movie Mak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reen recording software: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Camtasia Stu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-learning lecture authoring tool: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LectureMaker (www.webhard.net, ID: daulsoft, PW: 123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47644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ff-air audio or video recordings stored in digital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ortable devic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sh d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-p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505320" y="2916360"/>
            <a:ext cx="2438280" cy="10461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172200" y="3124080"/>
            <a:ext cx="2736720" cy="3429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571760" y="4495680"/>
            <a:ext cx="368604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CH MATERI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lexible modes of deliver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ce-to-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-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ended 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deo-lectu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-taped video materi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329520" y="2747880"/>
            <a:ext cx="205236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. Sugg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35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support of top leaders at all lev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CT across framework curricul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ular training of ICT applications for teachers &amp; learn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oting ICT applications among teachers &amp; learn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805880" y="685800"/>
            <a:ext cx="1185840" cy="1962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257800" y="5334120"/>
            <a:ext cx="289548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haring! Sharing! Sharing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52280" y="2971800"/>
            <a:ext cx="3657600" cy="32972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486400" y="2857680"/>
            <a:ext cx="2362320" cy="23475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295280" y="1905120"/>
            <a:ext cx="67820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LL CHANNELS: OPEN COURSEWARE – FOR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MUNITY WEBSITES &amp; MO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86200" y="5257800"/>
            <a:ext cx="5257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C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– a powerful tool for al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C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here NOT TO REPLACE teachers but to EMPOWER the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CUS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nts and ques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apprecia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loor is op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act: Dang Xuan Th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ail: thudung@fpt.v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3038760" cy="26953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238880" y="5181480"/>
            <a:ext cx="182880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vourable conditions in Vietn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CT for learn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CT for teacher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gges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72280" y="3400560"/>
            <a:ext cx="30096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 Favourable condi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27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ve environment: SEDP 2006-2010, ICT development strategy 2011-2020, ..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support of Government, MO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chers and learners (especially in big cities) are excited with ICT applic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66800" y="5181480"/>
            <a:ext cx="60292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CT market compet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mpetitive marke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7 international &amp; long distant PSTN operat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VNPT, Viettel, EVNTelecom, FPT, VTC, SPT, Hanoi Teleco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7 mobile networ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5 GSM (Mobifone, Vinafone, Viettel, HT Mobile, Gtel),  2 CDMA (S-fone, EVNTeleco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7 local network operat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VNPT, Viettel, EVNTelecom, Hanoi Telecom, SPT, FPT, VT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to lower ICT c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. ICT for learn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SE 4 ski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learning materi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T with frie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E information in for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Y with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52280"/>
            <a:ext cx="1828800" cy="3429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228600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. ICT for teach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FOR materi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materi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materi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E materi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ACH materials for 4 ski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E materi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 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389640" y="1876320"/>
            <a:ext cx="24494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OK FOR MATERI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scholar.google.com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en.wikipedia.org/wiki/Main_P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uk.ask.com/?tool=im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ww.yahoo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4640400"/>
            <a:ext cx="4495680" cy="2217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048120" y="5029200"/>
            <a:ext cx="60958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D MATERI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Some useful websites for teac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englishtips.org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e-book.com.au/freebooks.ht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cnx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http://ocw.mit.edu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http://www.vocw.edu.vn/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http://www.bbc.co.uk/worldservice/learningenglish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bc.net.au/news/btn/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5838840" y="76320"/>
            <a:ext cx="32288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-66600"/>
            <a:ext cx="9144000" cy="69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02:51:04Z</dcterms:created>
  <dc:creator>BH95LND</dc:creator>
  <dc:description/>
  <dc:language>en-US</dc:language>
  <cp:lastModifiedBy>Dang Xuan Thu</cp:lastModifiedBy>
  <dcterms:modified xsi:type="dcterms:W3CDTF">2008-11-13T15:57:34Z</dcterms:modified>
  <cp:revision>87</cp:revision>
  <dc:subject/>
  <dc:title>ICT for ELT in Vietnam</dc:title>
</cp:coreProperties>
</file>