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7.gif" ContentType="image/gi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gif" ContentType="image/gif"/>
  <Override PartName="/ppt/media/image24.png" ContentType="image/png"/>
  <Override PartName="/ppt/media/image14.png" ContentType="image/png"/>
  <Override PartName="/ppt/media/image22.gif" ContentType="image/gi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E12-C4E7-4FE3-A24B-06FE4448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3D4-E72A-4CE5-A7A7-B48F912D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7E1-2D7D-4F49-B15C-9D413116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44C-E296-469A-B748-B579581B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B97B-F9EF-46FF-8A3F-B2D07182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13B3-21B9-4E68-845D-39EF2DC2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6510-31A6-40FE-B47F-00DDE968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A01F-FCA5-49E2-BF8D-F459C8AF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AFD1-1898-48D6-9AC6-FCEC64F3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F6DE-5696-474F-AB72-3F209C9D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5019-638C-44C7-9D74-E3DD04C8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1D1-EEDA-4633-9F17-A15B9AC1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1B67-98CB-416C-AF41-FAF82139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A32C-ADCC-49AA-A755-D82DF1AB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7013-2EDF-4648-841B-AB610B2B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3BE9-67A6-426A-9D6F-D8E1AF98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1C9D-308C-4498-926A-292259AF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534-695B-41B7-84FB-E7FA4949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3428-3115-4055-8F08-86C07E45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346-964E-487C-9681-CBDC6E8F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25C-BE9F-458C-B017-937369CE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A13-A615-403B-84F7-3A602624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DA2-3861-4C0D-882B-AED95C13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FB0-5054-4D40-AA7C-D62CB2BD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753E-4F0A-47ED-B934-B3279FB26F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69C4-6473-4A1E-B413-BC84ABEB52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glishtips.org/" TargetMode="External"/><Relationship Id="rId2" Type="http://schemas.openxmlformats.org/officeDocument/2006/relationships/hyperlink" Target="http://cnx.org/" TargetMode="External"/><Relationship Id="rId3" Type="http://schemas.openxmlformats.org/officeDocument/2006/relationships/hyperlink" Target="http://ocw.mit.edu/" TargetMode="External"/><Relationship Id="rId4" Type="http://schemas.openxmlformats.org/officeDocument/2006/relationships/hyperlink" Target="http://www.vocw.edu.vn/" TargetMode="External"/><Relationship Id="rId5" Type="http://schemas.openxmlformats.org/officeDocument/2006/relationships/hyperlink" Target="http://www.bbc.co.uk/worldservice/learningenglish/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599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ICT for ELT in Vietnam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Dang Xuan T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anoi Un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oi, 14 November, 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705720" y="609480"/>
            <a:ext cx="1814400" cy="1290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95280" y="695160"/>
            <a:ext cx="11001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WNLOAD MATE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240" y="1981080"/>
            <a:ext cx="529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ownload softw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sh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ga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M 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download mana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629400" y="2017800"/>
            <a:ext cx="2325600" cy="411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24480" y="320040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886200" y="2514600"/>
            <a:ext cx="633240" cy="65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200400" y="3124080"/>
            <a:ext cx="762120" cy="544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590920" y="363852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876320" y="4611600"/>
            <a:ext cx="790560" cy="646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739152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MATE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d-processed hando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point presentations (texts + images + audio + vide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dio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eo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343400" y="5029200"/>
            <a:ext cx="1227240" cy="129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943600" y="36576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MATE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o-editing software: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ool Edit Pro 2.0, Sound Forge, Gold Wave, Jet Audio 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deo-editing software: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yberLink PowerDirector, Premiere, Ulead, Windows Movie Ma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een recording software: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amtasia Stu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learning lecture authoring tool: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LectureMaker (www.webhard.net, ID: daulsoft, PW: 123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47644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ff-air audio or video recordings stored in digital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ortable devi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sh d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-p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505320" y="2916360"/>
            <a:ext cx="2438280" cy="1046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72200" y="3124080"/>
            <a:ext cx="2736720" cy="3429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571760" y="4495680"/>
            <a:ext cx="36860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 MATE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lexible modes of delive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ce-to-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ended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eo-lectu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-taped video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329520" y="2747880"/>
            <a:ext cx="205236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 Sugg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support of top leaders at all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CT across framework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training of ICT applications for teachers &amp; lear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ting ICT applications among teachers &amp; lear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805880" y="685800"/>
            <a:ext cx="1185840" cy="1962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257800" y="5334120"/>
            <a:ext cx="289548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aring! Sharing! Sharing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3657600" cy="3297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486400" y="2857680"/>
            <a:ext cx="2362320" cy="2347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95280" y="1905120"/>
            <a:ext cx="6782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LL CHANNELS: OPEN COURSEWARE – FOR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MUNITY WEBSITES &amp; MO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5257800"/>
            <a:ext cx="525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C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a powerful tool for 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C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here NOT TO REPLACE teachers but to EMPOWER th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s and ques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appreci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loor is op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ct: Dang Xuan Th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ail: thudung@fpt.v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038760" cy="2695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238880" y="5181480"/>
            <a:ext cx="182880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vourable conditions in Vietn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CT for lear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CT for teach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72280" y="3400560"/>
            <a:ext cx="3009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 Favourable condi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ve environment: SEDP 2006-2010, ICT development strategy 2011-2020, ..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support of Government, MO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ers and learners (especially in big cities) are excited with ICT applic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66800" y="5181480"/>
            <a:ext cx="60292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CT market compet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petitive mark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7 international &amp; long distant PSTN opera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VNPT, Viettel, EVNTelecom, FPT, VTC, SPT, Hanoi Teleco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7 mobile networ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5 GSM (Mobifone, Vinafone, Viettel, HT Mobile, Gtel),  2 CDMA (S-fone, EVNTeleco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7 local network opera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VNPT, Viettel, EVNTelecom, Hanoi Telecom, SPT, FPT, V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to lower ICT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ICT for learn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SE 4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learning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T with 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information in fo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Y with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828800" cy="3429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22860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ICT for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FOR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 materials for 4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89640" y="1876320"/>
            <a:ext cx="2449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OK FOR MATE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scholar.google.com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en.wikipedia.org/wiki/Main_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uk.ask.com/?tool=im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yahoo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4640400"/>
            <a:ext cx="4495680" cy="2217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048120" y="5029200"/>
            <a:ext cx="60958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D MATE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Some useful websites for teac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englishtips.org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e-book.com.au/freebooks.ht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cnx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ocw.mit.edu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://www.vocw.edu.vn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http://www.bbc.co.uk/worldservice/learningenglish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bc.net.au/news/btn/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5838840" y="76320"/>
            <a:ext cx="32288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2:51:04Z</dcterms:created>
  <dc:creator>BH95LND</dc:creator>
  <dc:description/>
  <dc:language>en-US</dc:language>
  <cp:lastModifiedBy>Dang Xuan Thu</cp:lastModifiedBy>
  <dcterms:modified xsi:type="dcterms:W3CDTF">2008-11-13T15:57:34Z</dcterms:modified>
  <cp:revision>87</cp:revision>
  <dc:subject/>
  <dc:title>ICT for ELT in Vietnam</dc:title>
</cp:coreProperties>
</file>