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46A4A-4E56-4B6E-9227-F2814627E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18204-8BC1-4100-82CB-CD5DECFDA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7CEA7-0B31-4646-9DD3-E34442C22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B86B1-9D63-4F14-AC65-60CE3BD46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82DE6-6660-4126-8272-BF3C8DB09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9F6C2-E278-4C28-9D74-944329B88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8B4FD-F1AB-4400-889A-8CF9FE56E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7F596-24AA-4533-A071-FBB711647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12091-FAD3-4850-A90D-01BEE9A08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9D60C-E40A-4802-91F7-567DCAB32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895C1-2C9A-4440-9DD2-1C522C9B8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BF389-08F0-4019-BADE-989DF69F7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C93A7-CBE4-450D-98CA-AFCADF7E18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antara.co.id/arc/2008/5/4/gus-dur-siap-jadi-saksi-ahli-ahmadiyah/"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hidayatullah.com/index.php?option=com_content&amp;task=view&amp;id=6953&amp;Itemid=65" TargetMode="External"/><Relationship Id="rId2" Type="http://schemas.openxmlformats.org/officeDocument/2006/relationships/hyperlink" Target="http://hidayatullah.com/index.php?option=com_content&amp;task=view&amp;id=6953&amp;Itemid=65" TargetMode="External"/><Relationship Id="rId3" Type="http://schemas.openxmlformats.org/officeDocument/2006/relationships/hyperlink" Target="http://hidayatullah.com/index.php?option=com_content&amp;task=view&amp;id=6953&amp;Itemid=65" TargetMode="External"/><Relationship Id="rId4" Type="http://schemas.openxmlformats.org/officeDocument/2006/relationships/hyperlink" Target="http://hidayatullah.com/index.php?option=com_content&amp;task=view&amp;id=6953&amp;Itemid=65" TargetMode="External"/><Relationship Id="rId5" Type="http://schemas.openxmlformats.org/officeDocument/2006/relationships/hyperlink" Target="http://hidayatullah.com/index.php?option=com_content&amp;task=view&amp;id=6953&amp;Itemid=65" TargetMode="External"/><Relationship Id="rId6" Type="http://schemas.openxmlformats.org/officeDocument/2006/relationships/hyperlink" Target="http://hidayatullah.com/index.php?option=com_content&amp;task=view&amp;id=6953&amp;Itemid=65" TargetMode="External"/><Relationship Id="rId7" Type="http://schemas.openxmlformats.org/officeDocument/2006/relationships/hyperlink" Target="http://hidayatullah.com/index.php?option=com_content&amp;task=view&amp;id=6953&amp;Itemid=65"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ramuslim.com/berita/nas/8605205847-fui-diduga-kuat-as-ikut-dalangi-insiden-monas.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ram Memerangi Sesama Musli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yiarislam.wordpress.co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ahkan dikutip dan disebarluask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kerasan Yahudi dan AS</a:t>
            </a:r>
            <a:endParaRPr b="0" lang="en-US" sz="4400" spc="-1" strike="noStrike">
              <a:solidFill>
                <a:srgbClr val="000000"/>
              </a:solidFill>
              <a:latin typeface="Arial"/>
            </a:endParaRPr>
          </a:p>
        </p:txBody>
      </p:sp>
      <p:sp>
        <p:nvSpPr>
          <p:cNvPr id="60" name=""/>
          <p:cNvSpPr/>
          <p:nvPr/>
        </p:nvSpPr>
        <p:spPr>
          <a:xfrm>
            <a:off x="684360" y="1557360"/>
            <a:ext cx="777528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bih dari 500 ribu Muslim Palestina dibantai Israe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80 ribu warga Palestina terpaksa mengungs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0 ribu Muslim di Iraq dibantai AS (BBC)</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usan ribu Muslim Afghanistan dibantai AS dan Sekutuny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 Monas tidak ada korban jiwa oleh FP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napa dengan Yahudi dan AS yang membantai ratusan ribu Muslim berteman tapi dengan FPI yang lebih damai justru minta dibubark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kejaman Israel</a:t>
            </a:r>
            <a:endParaRPr b="0" lang="en-US" sz="4400" spc="-1" strike="noStrike">
              <a:solidFill>
                <a:srgbClr val="000000"/>
              </a:solidFill>
              <a:latin typeface="Arial"/>
            </a:endParaRPr>
          </a:p>
        </p:txBody>
      </p:sp>
      <p:pic>
        <p:nvPicPr>
          <p:cNvPr id="62" name="" descr=""/>
          <p:cNvPicPr/>
          <p:nvPr/>
        </p:nvPicPr>
        <p:blipFill>
          <a:blip r:embed="rId1"/>
          <a:stretch/>
        </p:blipFill>
        <p:spPr>
          <a:xfrm>
            <a:off x="1187280" y="1197000"/>
            <a:ext cx="6983640" cy="5008680"/>
          </a:xfrm>
          <a:prstGeom prst="rect">
            <a:avLst/>
          </a:prstGeom>
          <a:ln w="0">
            <a:noFill/>
          </a:ln>
        </p:spPr>
      </p:pic>
      <p:sp>
        <p:nvSpPr>
          <p:cNvPr id="63" name=""/>
          <p:cNvSpPr/>
          <p:nvPr/>
        </p:nvSpPr>
        <p:spPr>
          <a:xfrm>
            <a:off x="539640" y="6308640"/>
            <a:ext cx="82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rael Membantai Wanita dan anak-anak Palest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kejaman Israel</a:t>
            </a:r>
            <a:endParaRPr b="0" lang="en-US" sz="4400" spc="-1" strike="noStrike">
              <a:solidFill>
                <a:srgbClr val="000000"/>
              </a:solidFill>
              <a:latin typeface="Arial"/>
            </a:endParaRPr>
          </a:p>
        </p:txBody>
      </p:sp>
      <p:pic>
        <p:nvPicPr>
          <p:cNvPr id="65" name="" descr=""/>
          <p:cNvPicPr/>
          <p:nvPr/>
        </p:nvPicPr>
        <p:blipFill>
          <a:blip r:embed="rId1"/>
          <a:stretch/>
        </p:blipFill>
        <p:spPr>
          <a:xfrm>
            <a:off x="611280" y="1197000"/>
            <a:ext cx="3962160" cy="4800600"/>
          </a:xfrm>
          <a:prstGeom prst="rect">
            <a:avLst/>
          </a:prstGeom>
          <a:ln w="0">
            <a:noFill/>
          </a:ln>
        </p:spPr>
      </p:pic>
      <p:sp>
        <p:nvSpPr>
          <p:cNvPr id="66" name=""/>
          <p:cNvSpPr/>
          <p:nvPr/>
        </p:nvSpPr>
        <p:spPr>
          <a:xfrm>
            <a:off x="4716360" y="1268280"/>
            <a:ext cx="381636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mal mengatakan bahwa anaknya meminta perlindungan ayahnya. ”Demi Allah lindungi aku ayah” kata Muhammad. Namun tentara Israel terus menembak tanpa henti. Tentara Israel bahkan menembaki ambulan yang berusaha menyelamatkan mereka sehingga supirnya, Bassam al Bilbeisi tewas dan melukai lainnya (BB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yiarislam.wordpress.com/2008/04/03/foto-tentara-israel-bantai-anak-umur-11-tah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kejaman AS</a:t>
            </a:r>
            <a:endParaRPr b="0" lang="en-US" sz="4400" spc="-1" strike="noStrike">
              <a:solidFill>
                <a:srgbClr val="000000"/>
              </a:solidFill>
              <a:latin typeface="Arial"/>
            </a:endParaRPr>
          </a:p>
        </p:txBody>
      </p:sp>
      <p:sp>
        <p:nvSpPr>
          <p:cNvPr id="68" name=""/>
          <p:cNvSpPr/>
          <p:nvPr/>
        </p:nvSpPr>
        <p:spPr>
          <a:xfrm>
            <a:off x="539640" y="3716280"/>
            <a:ext cx="8209080" cy="2804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bantai 93 penduduk desa hanya karena mereka simpati dengan Taliba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U.S. warplanes strafed [with AC-130 gunships] the farming village of Chowkar-Karez, 25 miles north of Kandahar on October 22-23rd,killing at least 93 civilians, a Pentagon official said, "the people there are dead because we wanted them dead." The reason? They sympathized with the Taliban</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ursor.org/stories/civilian_deaths.htm</a:t>
            </a:r>
            <a:endParaRPr b="0" lang="en-US" sz="1800" spc="-1" strike="noStrike">
              <a:solidFill>
                <a:srgbClr val="000000"/>
              </a:solidFill>
              <a:latin typeface="Arial"/>
            </a:endParaRPr>
          </a:p>
        </p:txBody>
      </p:sp>
      <p:pic>
        <p:nvPicPr>
          <p:cNvPr id="69" name="" descr=""/>
          <p:cNvPicPr/>
          <p:nvPr/>
        </p:nvPicPr>
        <p:blipFill>
          <a:blip r:embed="rId1"/>
          <a:stretch/>
        </p:blipFill>
        <p:spPr>
          <a:xfrm>
            <a:off x="1979640" y="1197000"/>
            <a:ext cx="5238720" cy="2504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tidak-Adilan Media</a:t>
            </a:r>
            <a:endParaRPr b="0" lang="en-US" sz="4400" spc="-1" strike="noStrike">
              <a:solidFill>
                <a:srgbClr val="000000"/>
              </a:solidFill>
              <a:latin typeface="Arial"/>
            </a:endParaRPr>
          </a:p>
        </p:txBody>
      </p:sp>
      <p:sp>
        <p:nvSpPr>
          <p:cNvPr id="71" name=""/>
          <p:cNvSpPr/>
          <p:nvPr/>
        </p:nvSpPr>
        <p:spPr>
          <a:xfrm>
            <a:off x="684360" y="1557360"/>
            <a:ext cx="7775280" cy="4851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mbantaian puluhan ribu Muslim di Ambon, Poso ditutup-tutupi med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tu pula pembantaian ratusan ribu Muslim di Palestina, Iraq, dan Afghanista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entara peristiwa Monas yang tak ada korban jiwa diekspos berminggu-mingu.</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jadi pemutaran berita oleh beberapa Media. Yang sesat dilindungi, yang lurus dihuj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Hai orang yang beriman, jika datang kepadamu orang fasik membawa berita, periksalah dengan teliti agar kamu tidak menganiaya satu kaum tanpa mengetahui keadaannya yang menyebabkan kamu menyesal atas perbuatanmu itu.” [Hujuraat:6]</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barkanlah informasi ini ke ummat Islam lainny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mah Lembut Terhadap Muslim</a:t>
            </a:r>
            <a:endParaRPr b="0" lang="en-US" sz="4000" spc="-1" strike="noStrike">
              <a:solidFill>
                <a:srgbClr val="000000"/>
              </a:solidFill>
              <a:latin typeface="Arial"/>
            </a:endParaRPr>
          </a:p>
        </p:txBody>
      </p:sp>
      <p:sp>
        <p:nvSpPr>
          <p:cNvPr id="44" name=""/>
          <p:cNvSpPr/>
          <p:nvPr/>
        </p:nvSpPr>
        <p:spPr>
          <a:xfrm>
            <a:off x="684360" y="1557360"/>
            <a:ext cx="7775280" cy="4183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Muhammad adalah utusan Allah dan orang-orang yang bersama dengan dia keras terhadap orang-orang kafir, tetapi berkasih sayang sesama mereka” [Al Fath:29]</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taskah kita keras terhadap FPI (Front Pembela Islam) yang Muslim dan menentang alirat sesat Ahmadiyah sementara justru membela Ahmadiya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Saya  bersedia menjadi pembela Ahmadiyah, jika masalah itu harus diselesaikan di pengadilan," kata Gus Dur di Jakarta, Minggu (Antara)</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antara.co.id/arc/2008/5/4/gus-dur-siap-jadi-saksi-ahli-ahmadiya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ram Memerangi Muslim</a:t>
            </a:r>
            <a:endParaRPr b="0" lang="en-US" sz="4400" spc="-1" strike="noStrike">
              <a:solidFill>
                <a:srgbClr val="000000"/>
              </a:solidFill>
              <a:latin typeface="Arial"/>
            </a:endParaRPr>
          </a:p>
        </p:txBody>
      </p:sp>
      <p:sp>
        <p:nvSpPr>
          <p:cNvPr id="46" name=""/>
          <p:cNvSpPr/>
          <p:nvPr/>
        </p:nvSpPr>
        <p:spPr>
          <a:xfrm>
            <a:off x="684360" y="1557360"/>
            <a:ext cx="7775280" cy="5189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hwa Nabi saw. bersabda: Barang siapa menghunus pedang kepada kami, maka ia bukanlah dari golongan kami. (Shahih Muslim No.14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rangsiapa mengangkat senjata terhadap kami tidaklah dia dari golongan kami dan barangsiapa menipu kami maka dia bukan dari golongan kami. (HR. Bukhar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rakan Pemuda Ansor, sayap pemuda Nahdlatul Ulama (NU), siap “perang” dengan FPI. Pernyataan ini disampaikan Sekjen GP Ansor Abdul Malik Haramain di Jakarta, Senin siang (Hidayatullah.com)</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a:t>
            </a:r>
            <a:r>
              <a:rPr b="0" lang="en-US" sz="1800" spc="-1" strike="noStrike" u="sng">
                <a:solidFill>
                  <a:srgbClr val="009999"/>
                </a:solidFill>
                <a:uFillTx/>
                <a:latin typeface="Arial"/>
                <a:hlinkClick r:id="rId2"/>
              </a:rPr>
              <a:t>hidayatullah.com/index.php?option</a:t>
            </a:r>
            <a:r>
              <a:rPr b="0" lang="en-US" sz="1800" spc="-1" strike="noStrike" u="sng">
                <a:solidFill>
                  <a:srgbClr val="009999"/>
                </a:solidFill>
                <a:uFillTx/>
                <a:latin typeface="Arial"/>
                <a:hlinkClick r:id="rId3"/>
              </a:rPr>
              <a:t>=</a:t>
            </a:r>
            <a:r>
              <a:rPr b="0" lang="en-US" sz="1800" spc="-1" strike="noStrike" u="sng">
                <a:solidFill>
                  <a:srgbClr val="009999"/>
                </a:solidFill>
                <a:uFillTx/>
                <a:latin typeface="Arial"/>
                <a:hlinkClick r:id="rId4"/>
              </a:rPr>
              <a:t>com_content&amp;task</a:t>
            </a:r>
            <a:r>
              <a:rPr b="0" lang="en-US" sz="1800" spc="-1" strike="noStrike" u="sng">
                <a:solidFill>
                  <a:srgbClr val="009999"/>
                </a:solidFill>
                <a:uFillTx/>
                <a:latin typeface="Arial"/>
                <a:hlinkClick r:id="rId5"/>
              </a:rPr>
              <a:t>=</a:t>
            </a:r>
            <a:r>
              <a:rPr b="0" lang="en-US" sz="1800" spc="-1" strike="noStrike" u="sng">
                <a:solidFill>
                  <a:srgbClr val="009999"/>
                </a:solidFill>
                <a:uFillTx/>
                <a:latin typeface="Arial"/>
                <a:hlinkClick r:id="rId6"/>
              </a:rPr>
              <a:t>view&amp;id</a:t>
            </a:r>
            <a:r>
              <a:rPr b="0" lang="en-US" sz="1800" spc="-1" strike="noStrike" u="sng">
                <a:solidFill>
                  <a:srgbClr val="009999"/>
                </a:solidFill>
                <a:uFillTx/>
                <a:latin typeface="Arial"/>
                <a:hlinkClick r:id="rId7"/>
              </a:rPr>
              <a:t>=6953&amp;Itemid=65</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mbunuh Muslim Masuk Neraka</a:t>
            </a:r>
            <a:endParaRPr b="0" lang="en-US" sz="4000" spc="-1" strike="noStrike">
              <a:solidFill>
                <a:srgbClr val="000000"/>
              </a:solidFill>
              <a:latin typeface="Arial"/>
            </a:endParaRPr>
          </a:p>
        </p:txBody>
      </p:sp>
      <p:sp>
        <p:nvSpPr>
          <p:cNvPr id="48" name=""/>
          <p:cNvSpPr/>
          <p:nvPr/>
        </p:nvSpPr>
        <p:spPr>
          <a:xfrm>
            <a:off x="684360" y="1557360"/>
            <a:ext cx="777528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dis riwayat Abu Bakrah ra., ia berkat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ku mendengar Nabi bersabda: Jika dua orang muslim saling bertarung dengan menghunus pedang mereka, maka pembunuh dan yang terbunuh, keduanya masuk neraka. Aku (Abu Bakrah) bertanya: Wahai Rasulullah, kalau yang membunuh itu jelas berdosa, tetapi bagaimana dengan yang terbunuh? Beliau menjawab: Karena sesungguhnya ia juga ingin membunuh saudaranya. (Shahih Muslim No.51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Adu Domba Ummat Islam?</a:t>
            </a:r>
            <a:endParaRPr b="0" lang="en-US" sz="4400" spc="-1" strike="noStrike">
              <a:solidFill>
                <a:srgbClr val="000000"/>
              </a:solidFill>
              <a:latin typeface="Arial"/>
            </a:endParaRPr>
          </a:p>
        </p:txBody>
      </p:sp>
      <p:sp>
        <p:nvSpPr>
          <p:cNvPr id="50" name=""/>
          <p:cNvSpPr/>
          <p:nvPr/>
        </p:nvSpPr>
        <p:spPr>
          <a:xfrm>
            <a:off x="684360" y="1557360"/>
            <a:ext cx="7775280" cy="5372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Sesungguhnya orang-orang yang kafir menafkahkan harta mereka untuk menghalangi (orang) dari jalan Allah” [Al Anfaal:3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kah Yahudi dan AS memberi uang kepada sebagian Muslim untuk mengadu domba ummat Islam agar saling bunuh? Devide et Imper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a maksud kuasa usaha AS John A Hefern  membesuk para korban dari AKKBB? Apakah agar FPI dibubarkan? " ujar Dewan Penasehat FUI Ahmad Sumargono.</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a juga mempertanyakan sikap Kedubes AS yang menggelar jumpa pers mengecam insiden tersebut </a:t>
            </a:r>
            <a:r>
              <a:rPr b="0" lang="en-US" sz="2400" spc="-1" strike="noStrike" u="sng">
                <a:solidFill>
                  <a:srgbClr val="009999"/>
                </a:solidFill>
                <a:uFillTx/>
                <a:latin typeface="Arial"/>
                <a:hlinkClick r:id="rId1"/>
              </a:rPr>
              <a:t>http://eramuslim.com/berita/nas/8605205847-fui-diduga-kuat-as-ikut-dalangi-insiden-monas.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rael Adu Domba Ummat Islam?</a:t>
            </a:r>
            <a:endParaRPr b="0" lang="en-US" sz="4000" spc="-1" strike="noStrike">
              <a:solidFill>
                <a:srgbClr val="000000"/>
              </a:solidFill>
              <a:latin typeface="Arial"/>
            </a:endParaRPr>
          </a:p>
        </p:txBody>
      </p:sp>
      <p:sp>
        <p:nvSpPr>
          <p:cNvPr id="52" name=""/>
          <p:cNvSpPr/>
          <p:nvPr/>
        </p:nvSpPr>
        <p:spPr>
          <a:xfrm>
            <a:off x="684360" y="1557360"/>
            <a:ext cx="7775280" cy="468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 New York, Gus Dur menerima penghargaan sebagai penegak HAM dari Simon Wiesenthal Center, yayasan yang dipimpin mantan PM Israel Shimon Pere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antara.co.id/arc/2008/5/4/gus-dur-siap-jadi-saksi-ahli-ahmadiyah/</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buan umat Islam Sulawesi Selatan mengutuk kekejaman tentara Israel terhadap warga muslim Palestina. Mereka mendesak Presiden Abdurrahman Wahid agar memutuskan hubungan diplomatik dengan Israel dan keluar dari kepengurusan Yayasan Yahudi Shimon Peres. </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liputan6.com/daerah/?id=246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tua NU Melarang Perang</a:t>
            </a:r>
            <a:endParaRPr b="0" lang="en-US" sz="4400" spc="-1" strike="noStrike">
              <a:solidFill>
                <a:srgbClr val="000000"/>
              </a:solidFill>
              <a:latin typeface="Arial"/>
            </a:endParaRPr>
          </a:p>
        </p:txBody>
      </p:sp>
      <p:sp>
        <p:nvSpPr>
          <p:cNvPr id="54" name=""/>
          <p:cNvSpPr/>
          <p:nvPr/>
        </p:nvSpPr>
        <p:spPr>
          <a:xfrm>
            <a:off x="684360" y="1557360"/>
            <a:ext cx="77752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tua PBNU, Hasyim Muzadi meminta anggota NU tidak terlibat dalam memerangi FP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 Moderat. Bukan Liberal yang membela aliran sesat Ahmadiyah kata Hasyim Muzad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yim menolak anasir Islam Liberal di NU yang ingin mengadu-domba NU dengan ummat Islam lainny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mmat Islam Bersaudara</a:t>
            </a:r>
            <a:endParaRPr b="0" lang="en-US" sz="4400" spc="-1" strike="noStrike">
              <a:solidFill>
                <a:srgbClr val="000000"/>
              </a:solidFill>
              <a:latin typeface="Arial"/>
            </a:endParaRPr>
          </a:p>
        </p:txBody>
      </p:sp>
      <p:sp>
        <p:nvSpPr>
          <p:cNvPr id="56" name=""/>
          <p:cNvSpPr/>
          <p:nvPr/>
        </p:nvSpPr>
        <p:spPr>
          <a:xfrm>
            <a:off x="684360" y="1557360"/>
            <a:ext cx="77752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ang-orang Islam itu bersaudara. Maka memerangi sesama Muslim adalah tindakan kekafiran. Hendaklah mereka sadar dan bertob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ang-orang beriman itu sesungguhnya bersaudara. Sebab itu damaikanlah (perbaikilah hubungan) antara kedua saudaramu itu dan takutlah terhadap Allah, supaya kamu mendapat rahmat.Hujuraat: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PI Pembela Islam</a:t>
            </a:r>
            <a:endParaRPr b="0" lang="en-US" sz="4400" spc="-1" strike="noStrike">
              <a:solidFill>
                <a:srgbClr val="000000"/>
              </a:solidFill>
              <a:latin typeface="Arial"/>
            </a:endParaRPr>
          </a:p>
        </p:txBody>
      </p:sp>
      <p:sp>
        <p:nvSpPr>
          <p:cNvPr id="58" name=""/>
          <p:cNvSpPr/>
          <p:nvPr/>
        </p:nvSpPr>
        <p:spPr>
          <a:xfrm>
            <a:off x="684360" y="1557360"/>
            <a:ext cx="7775280" cy="474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PI muncul untuk membela ratusan ulama yang dibantai para “Ninja” (belum tertangkap aparat) di Jawa Timur tahun 1998 dengan tuduhan dukun sant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PI turut membela puluhan ribu ummat Islam yang dibantai di Ambon dan Poso</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id.wikipedia.org/wiki/Daftar_aksi_Front_Pembela_Islam </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buan ummat Islam dibantai tapi dalangnya tidak ditemukan. Di Monas tidak ada yang mati tapi FPI ditangkapi dan dibubarka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ka FPI dibubarkan, bisakah Aparat dan Gus Dur mencegah pembantaian ummat Isl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8T09:53:45Z</dcterms:created>
  <dc:creator>AGUS NIZAMI</dc:creator>
  <dc:description/>
  <dc:language>en-US</dc:language>
  <cp:lastModifiedBy>AN</cp:lastModifiedBy>
  <dcterms:modified xsi:type="dcterms:W3CDTF">2008-06-09T01:39:15Z</dcterms:modified>
  <cp:revision>10</cp:revision>
  <dc:subject/>
  <dc:title>Haram Memerangi Sesama Muslim</dc:title>
</cp:coreProperties>
</file>