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6DD-D3A6-4469-916B-FFCBF7D0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DB5-F4EA-4EB9-9E3F-FA6E64DA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DE9-7477-4333-A5B4-9882119D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A43-F1AA-4760-AF48-FD7F9074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F16-AF18-4DA3-A79C-51F869A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DBC-3D1A-4C1D-AC95-E30AE5F8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219-4DD7-4DD3-8F5E-CC4ECEA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F0B-C801-4156-B926-AC2AD9EB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CD2-FA0B-4A2E-B146-4A2B3A0F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1C3-A882-436D-B536-16CFF82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CA3-DECF-43B5-941A-622F8F6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73D-F69B-4ACD-9D6D-B1D1BE4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A1ED-BBF0-49B0-B67A-50EF2DD29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h/url?sa=i&amp;rct=j&amp;q=&amp;esrc=s&amp;frm=1&amp;source=images&amp;cd=&amp;docid=166QcpOSUhyHUM&amp;tbnid=xGTdLsIv8SYrQM:&amp;ved=0CAUQjRw&amp;url=http%3A%2F%2Fwww.biology-online.org%2Fbiology-forum%2Fabout13943.html&amp;ei=bghtUtjgLaOd0QXSsYCICg&amp;bvm=bv.55123115,d.bGE&amp;psig=AFQjCNGMqxSZomq0pbzz7KvqY5d0rIqF5w&amp;ust=1382963690288064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Arial Rounded MT Bold"/>
              </a:rPr>
              <a:t>Diffusion and Osmosis</a:t>
            </a:r>
            <a:br>
              <a:rPr sz="5000"/>
            </a:br>
            <a:r>
              <a:rPr b="1" lang="en-US" sz="5000" spc="-1" strike="noStrike">
                <a:solidFill>
                  <a:srgbClr val="0070c0"/>
                </a:solidFill>
                <a:latin typeface="Arial Rounded MT Bold"/>
              </a:rPr>
              <a:t> Across Plasma Membran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ractical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scientechclub.org/images/KidneyFlow.jpg"/>
          <p:cNvPicPr/>
          <p:nvPr/>
        </p:nvPicPr>
        <p:blipFill>
          <a:blip r:embed="rId1"/>
          <a:stretch/>
        </p:blipFill>
        <p:spPr>
          <a:xfrm>
            <a:off x="0" y="-20520"/>
            <a:ext cx="91202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http://www.thevirtualnephrologist.com/mobile/Dialysis-G-TVN-Membran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xperiment (1) Diffu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e one end of the dialysis tub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ll the tube with 2.0 ml of starch sol. Tie the other e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t the tube in a beaker of water containing 20 drops of Iod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e the color change after 15 minut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ialysis Tub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1.bp.blogspot.com/-a-Km0JTbv7c/UF2_hmLtw5I/AAAAAAAADbI/CqCvDso8yrY/s1600/dialysis+tubing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3356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http://iws.collin.edu/mweis/Images/Models/2401models/cell%20models/cell%20models%20photo/cell_chem_dialysis_bag2.jpg"/>
          <p:cNvPicPr/>
          <p:nvPr/>
        </p:nvPicPr>
        <p:blipFill>
          <a:blip r:embed="rId2"/>
          <a:stretch/>
        </p:blipFill>
        <p:spPr>
          <a:xfrm>
            <a:off x="533520" y="1600200"/>
            <a:ext cx="41907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6"/>
          <p:cNvGrpSpPr/>
          <p:nvPr/>
        </p:nvGrpSpPr>
        <p:grpSpPr>
          <a:xfrm>
            <a:off x="1066680" y="3276720"/>
            <a:ext cx="6705720" cy="3276360"/>
            <a:chOff x="1066680" y="3276720"/>
            <a:chExt cx="6705720" cy="3276360"/>
          </a:xfrm>
        </p:grpSpPr>
        <p:sp>
          <p:nvSpPr>
            <p:cNvPr id="76" name="Right Arrow 12"/>
            <p:cNvSpPr/>
            <p:nvPr/>
          </p:nvSpPr>
          <p:spPr>
            <a:xfrm>
              <a:off x="4038480" y="4952880"/>
              <a:ext cx="838080" cy="2286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5"/>
            <p:cNvGrpSpPr/>
            <p:nvPr/>
          </p:nvGrpSpPr>
          <p:grpSpPr>
            <a:xfrm>
              <a:off x="1066680" y="3276720"/>
              <a:ext cx="6705720" cy="3276360"/>
              <a:chOff x="1066680" y="3276720"/>
              <a:chExt cx="6705720" cy="3276360"/>
            </a:xfrm>
          </p:grpSpPr>
          <p:pic>
            <p:nvPicPr>
              <p:cNvPr id="78" name="Picture 10" descr="http://2.bp.blogspot.com/-ezOzIwI-GJw/UF2_ec1ogEI/AAAAAAAADa4/T5QNNYrDMps/s320/Diffsion+and+Osmosis+Biology+Lab.jpg"/>
              <p:cNvPicPr/>
              <p:nvPr/>
            </p:nvPicPr>
            <p:blipFill>
              <a:blip r:embed="rId3"/>
              <a:srcRect l="48104" t="0" r="0" b="0"/>
              <a:stretch/>
            </p:blipFill>
            <p:spPr>
              <a:xfrm>
                <a:off x="1066680" y="3276720"/>
                <a:ext cx="274320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1" descr="http://2.bp.blogspot.com/-ezOzIwI-GJw/UF2_ec1ogEI/AAAAAAAADa4/T5QNNYrDMps/s320/Diffsion+and+Osmosis+Biology+Lab.jpg"/>
              <p:cNvPicPr/>
              <p:nvPr/>
            </p:nvPicPr>
            <p:blipFill>
              <a:blip r:embed="rId4"/>
              <a:srcRect l="0" t="0" r="48919" b="0"/>
              <a:stretch/>
            </p:blipFill>
            <p:spPr>
              <a:xfrm>
                <a:off x="5029200" y="3276720"/>
                <a:ext cx="2743200" cy="32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Box 13"/>
              <p:cNvSpPr/>
              <p:nvPr/>
            </p:nvSpPr>
            <p:spPr>
              <a:xfrm>
                <a:off x="1066680" y="610776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Befo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14"/>
              <p:cNvSpPr/>
              <p:nvPr/>
            </p:nvSpPr>
            <p:spPr>
              <a:xfrm>
                <a:off x="5029200" y="618408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f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smos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96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Diffusion of water through membrane following its grad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From higher (H</a:t>
            </a:r>
            <a:r>
              <a:rPr b="1" lang="en-US" sz="3600" spc="-1" strike="noStrike" baseline="-25000">
                <a:solidFill>
                  <a:srgbClr val="17375e"/>
                </a:solidFill>
                <a:latin typeface="Aharoni"/>
                <a:ea typeface="Aharoni"/>
              </a:rPr>
              <a:t>2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O) gradient (</a:t>
            </a:r>
            <a:r>
              <a:rPr b="1" lang="en-US" sz="3600" spc="-1" strike="noStrike">
                <a:solidFill>
                  <a:srgbClr val="4f6228"/>
                </a:solidFill>
                <a:latin typeface="Aharoni"/>
                <a:ea typeface="Aharoni"/>
              </a:rPr>
              <a:t>hypotonic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to lower (H</a:t>
            </a:r>
            <a:r>
              <a:rPr b="1" lang="en-US" sz="3600" spc="-1" strike="noStrike" baseline="-25000">
                <a:solidFill>
                  <a:srgbClr val="17375e"/>
                </a:solidFill>
                <a:latin typeface="Aharoni"/>
                <a:ea typeface="Aharoni"/>
              </a:rPr>
              <a:t>2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O) gradient (</a:t>
            </a:r>
            <a:r>
              <a:rPr b="1" lang="en-US" sz="3600" spc="-1" strike="noStrike">
                <a:solidFill>
                  <a:srgbClr val="4f6228"/>
                </a:solidFill>
                <a:latin typeface="Aharoni"/>
                <a:ea typeface="Aharoni"/>
              </a:rPr>
              <a:t>hypertonic</a:t>
            </a:r>
            <a:r>
              <a:rPr b="1" lang="en-US" sz="3600" spc="-1" strike="noStrike">
                <a:solidFill>
                  <a:srgbClr val="17375e"/>
                </a:solidFill>
                <a:latin typeface="Aharoni"/>
                <a:ea typeface="Aharon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keepinapbiologyreal.wikispaces.com/file/view/osmosis.gif/165682427/osmosis.gif"/>
          <p:cNvPicPr/>
          <p:nvPr/>
        </p:nvPicPr>
        <p:blipFill>
          <a:blip r:embed="rId1"/>
          <a:srcRect l="21476" t="26586" r="68435" b="58915"/>
          <a:stretch/>
        </p:blipFill>
        <p:spPr>
          <a:xfrm>
            <a:off x="4648320" y="5867280"/>
            <a:ext cx="6001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6" name="Group 9"/>
          <p:cNvGrpSpPr/>
          <p:nvPr/>
        </p:nvGrpSpPr>
        <p:grpSpPr>
          <a:xfrm>
            <a:off x="0" y="1371600"/>
            <a:ext cx="9144000" cy="5105520"/>
            <a:chOff x="0" y="1371600"/>
            <a:chExt cx="9144000" cy="5105520"/>
          </a:xfrm>
        </p:grpSpPr>
        <p:pic>
          <p:nvPicPr>
            <p:cNvPr id="87" name="Picture 3" descr="http://keepinapbiologyreal.wikispaces.com/file/view/osmosis.gif/165682427/osmosis.gif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Group 8"/>
            <p:cNvGrpSpPr/>
            <p:nvPr/>
          </p:nvGrpSpPr>
          <p:grpSpPr>
            <a:xfrm>
              <a:off x="5257800" y="5867640"/>
              <a:ext cx="3657600" cy="444240"/>
              <a:chOff x="5257800" y="5867640"/>
              <a:chExt cx="3657600" cy="444240"/>
            </a:xfrm>
          </p:grpSpPr>
          <p:pic>
            <p:nvPicPr>
              <p:cNvPr id="89" name="Picture 5" descr="http://keepinapbiologyreal.wikispaces.com/file/view/osmosis.gif/165682427/osmosis.gif"/>
              <p:cNvPicPr/>
              <p:nvPr/>
            </p:nvPicPr>
            <p:blipFill>
              <a:blip r:embed="rId3"/>
              <a:srcRect l="10418" t="59822" r="82537" b="26586"/>
              <a:stretch/>
            </p:blipFill>
            <p:spPr>
              <a:xfrm>
                <a:off x="6629400" y="5867640"/>
                <a:ext cx="419040" cy="428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90" name="TextBox 6"/>
              <p:cNvSpPr/>
              <p:nvPr/>
            </p:nvSpPr>
            <p:spPr>
              <a:xfrm>
                <a:off x="5257800" y="59436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wa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Box 7"/>
              <p:cNvSpPr/>
              <p:nvPr/>
            </p:nvSpPr>
            <p:spPr>
              <a:xfrm>
                <a:off x="7086600" y="594360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gar molecu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ypotonic &amp; Hyperton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27432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otonic                  Contain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es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lute 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solvent. (e.g. high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ient of wat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ypertonic                 Contain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o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lute 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solvent. (e.g. low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ient of wat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2819160" y="3048120"/>
            <a:ext cx="1219320" cy="1754280"/>
            <a:chOff x="2819160" y="3048120"/>
            <a:chExt cx="1219320" cy="1754280"/>
          </a:xfrm>
        </p:grpSpPr>
        <p:cxnSp>
          <p:nvCxnSpPr>
            <p:cNvPr id="95" name="Straight Arrow Connector 4"/>
            <p:cNvCxnSpPr/>
            <p:nvPr/>
          </p:nvCxnSpPr>
          <p:spPr>
            <a:xfrm>
              <a:off x="2819160" y="3048120"/>
              <a:ext cx="114372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6" name="Straight Arrow Connector 5"/>
            <p:cNvCxnSpPr/>
            <p:nvPr/>
          </p:nvCxnSpPr>
          <p:spPr>
            <a:xfrm>
              <a:off x="2895120" y="4800600"/>
              <a:ext cx="114372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ttp://bio520.files.wordpress.com/2011/02/iso1.gif"/>
          <p:cNvPicPr/>
          <p:nvPr/>
        </p:nvPicPr>
        <p:blipFill>
          <a:blip r:embed="rId1"/>
          <a:stretch/>
        </p:blipFill>
        <p:spPr>
          <a:xfrm>
            <a:off x="152280" y="380880"/>
            <a:ext cx="41148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4" descr="http://bio520.files.wordpress.com/2011/02/hyp1.gif"/>
          <p:cNvPicPr/>
          <p:nvPr/>
        </p:nvPicPr>
        <p:blipFill>
          <a:blip r:embed="rId2"/>
          <a:stretch/>
        </p:blipFill>
        <p:spPr>
          <a:xfrm>
            <a:off x="4419720" y="380880"/>
            <a:ext cx="4267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5" descr="http://www.meise.com/english/bilder/haemodialyse_4.jpg"/>
          <p:cNvPicPr/>
          <p:nvPr/>
        </p:nvPicPr>
        <p:blipFill>
          <a:blip r:embed="rId3"/>
          <a:stretch/>
        </p:blipFill>
        <p:spPr>
          <a:xfrm>
            <a:off x="1523880" y="3316320"/>
            <a:ext cx="5945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chem.ufl.edu/~itl/4411/colligative/FG13_02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ttp://bio520.files.wordpress.com/2011/02/globulos-rojos-osmosis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Movement of molecules through membra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Solvents and solutes molec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Passive movement (no Energ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http://environmentsofcells.wikispaces.com/file/view/800px-Diffusion_en_svg.png/217225506/800px-Diffusion_en_svg.png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 rot="19011000">
            <a:off x="6483960" y="1067040"/>
            <a:ext cx="26668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nprior"/>
              </a:rPr>
              <a:t>C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ages.wisegeek.com/osmosis-plant-diagram.jpg"/>
          <p:cNvPicPr/>
          <p:nvPr/>
        </p:nvPicPr>
        <p:blipFill>
          <a:blip r:embed="rId1"/>
          <a:stretch/>
        </p:blipFill>
        <p:spPr>
          <a:xfrm>
            <a:off x="21337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https://c479107.ssl.cf2.rackcdn.com/files/2123/width668/wrinkled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xperiment (2) Osmos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e one end of the dialysis t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ll the tube with sucrose sol. Tie the other end leaving space in the t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 ruler measure the height of solu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t the tube in a beaker of wa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 the change in solution height after 30-45 minut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Diffus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haroni"/>
                <a:ea typeface="Aharoni"/>
              </a:rPr>
              <a:t>Movement of salt molecules from higher to lower concent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ttp://apbrwww5.apsu.edu/thompsonj/Anatomy%20&amp;%20Physiology/2010/2010%20Exam%20Reviews/Exam%201%20Review/simple_diffusion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8120" y="6858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ffusion of  Molecules and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apbrwww5.apsu.edu/thompsonj/Anatomy%20&amp;%20Physiology/2010/2010%20Exam%20Reviews/Exam%201%20Review/simple_diffusion.gif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emi- permeabili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Diffusion through a semipermeable membrane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52280" y="1143000"/>
            <a:ext cx="88394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ubstances may pass and others 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Dialysis Tub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1.bp.blogspot.com/-a-Km0JTbv7c/UF2_hmLtw5I/AAAAAAAADbI/CqCvDso8yrY/s1600/dialysis+tubing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3356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ws.collin.edu/mweis/Images/Models/2401models/cell%20models/cell%20models%20photo/cell_chem_dialysis_bag2.jpg"/>
          <p:cNvPicPr/>
          <p:nvPr/>
        </p:nvPicPr>
        <p:blipFill>
          <a:blip r:embed="rId2"/>
          <a:stretch/>
        </p:blipFill>
        <p:spPr>
          <a:xfrm>
            <a:off x="533520" y="1600200"/>
            <a:ext cx="41907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6"/>
          <p:cNvGrpSpPr/>
          <p:nvPr/>
        </p:nvGrpSpPr>
        <p:grpSpPr>
          <a:xfrm>
            <a:off x="1066680" y="3276720"/>
            <a:ext cx="6705720" cy="3276360"/>
            <a:chOff x="1066680" y="3276720"/>
            <a:chExt cx="6705720" cy="3276360"/>
          </a:xfrm>
        </p:grpSpPr>
        <p:sp>
          <p:nvSpPr>
            <p:cNvPr id="58" name="Right Arrow 12"/>
            <p:cNvSpPr/>
            <p:nvPr/>
          </p:nvSpPr>
          <p:spPr>
            <a:xfrm>
              <a:off x="4038480" y="4952880"/>
              <a:ext cx="838080" cy="228600"/>
            </a:xfrm>
            <a:prstGeom prst="rightArrow">
              <a:avLst>
                <a:gd name="adj1" fmla="val 50000"/>
                <a:gd name="adj2" fmla="val 49985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5"/>
            <p:cNvGrpSpPr/>
            <p:nvPr/>
          </p:nvGrpSpPr>
          <p:grpSpPr>
            <a:xfrm>
              <a:off x="1066680" y="3276720"/>
              <a:ext cx="6705720" cy="3276360"/>
              <a:chOff x="1066680" y="3276720"/>
              <a:chExt cx="6705720" cy="3276360"/>
            </a:xfrm>
          </p:grpSpPr>
          <p:pic>
            <p:nvPicPr>
              <p:cNvPr id="60" name="Picture 10" descr="http://2.bp.blogspot.com/-ezOzIwI-GJw/UF2_ec1ogEI/AAAAAAAADa4/T5QNNYrDMps/s320/Diffsion+and+Osmosis+Biology+Lab.jpg"/>
              <p:cNvPicPr/>
              <p:nvPr/>
            </p:nvPicPr>
            <p:blipFill>
              <a:blip r:embed="rId3"/>
              <a:srcRect l="48104" t="0" r="0" b="0"/>
              <a:stretch/>
            </p:blipFill>
            <p:spPr>
              <a:xfrm>
                <a:off x="1066680" y="3276720"/>
                <a:ext cx="274320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1" descr="http://2.bp.blogspot.com/-ezOzIwI-GJw/UF2_ec1ogEI/AAAAAAAADa4/T5QNNYrDMps/s320/Diffsion+and+Osmosis+Biology+Lab.jpg"/>
              <p:cNvPicPr/>
              <p:nvPr/>
            </p:nvPicPr>
            <p:blipFill>
              <a:blip r:embed="rId4"/>
              <a:srcRect l="0" t="0" r="48919" b="0"/>
              <a:stretch/>
            </p:blipFill>
            <p:spPr>
              <a:xfrm>
                <a:off x="5029200" y="3276720"/>
                <a:ext cx="2743200" cy="32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Box 13"/>
              <p:cNvSpPr/>
              <p:nvPr/>
            </p:nvSpPr>
            <p:spPr>
              <a:xfrm>
                <a:off x="1066680" y="610776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Befo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Box 14"/>
              <p:cNvSpPr/>
              <p:nvPr/>
            </p:nvSpPr>
            <p:spPr>
              <a:xfrm>
                <a:off x="5029200" y="6184080"/>
                <a:ext cx="91440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f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For PD, a catheter and simple tubing circuit are all what you need to perform Peritoneal Dialysis YES, IT IS THAT SIMPLE"/>
          <p:cNvPicPr/>
          <p:nvPr/>
        </p:nvPicPr>
        <p:blipFill>
          <a:blip r:embed="rId1"/>
          <a:stretch/>
        </p:blipFill>
        <p:spPr>
          <a:xfrm>
            <a:off x="4267080" y="1143000"/>
            <a:ext cx="464832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t is a fill bag and a drain bag, with tubing to connect to the Peritoneal Dialysis Catheter. Peritoneal Dialysis is performed while you are relaxed."/>
          <p:cNvPicPr/>
          <p:nvPr/>
        </p:nvPicPr>
        <p:blipFill>
          <a:blip r:embed="rId2"/>
          <a:stretch/>
        </p:blipFill>
        <p:spPr>
          <a:xfrm>
            <a:off x="228600" y="11430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28600" y="152280"/>
            <a:ext cx="46483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ses of Diff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http://www.baxter.co.nz/images/patients_and_caregivers/therapies/renal/treatment-end_clip_image005.jpg"/>
          <p:cNvPicPr/>
          <p:nvPr/>
        </p:nvPicPr>
        <p:blipFill>
          <a:blip r:embed="rId1"/>
          <a:stretch/>
        </p:blipFill>
        <p:spPr>
          <a:xfrm>
            <a:off x="1752480" y="76320"/>
            <a:ext cx="55627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7:04:14Z</dcterms:created>
  <dc:creator>aliem</dc:creator>
  <dc:description/>
  <dc:language>en-US</dc:language>
  <cp:lastModifiedBy>aliem</cp:lastModifiedBy>
  <dcterms:modified xsi:type="dcterms:W3CDTF">2013-10-27T12:37:30Z</dcterms:modified>
  <cp:revision>42</cp:revision>
  <dc:subject/>
  <dc:title>Slide 1</dc:title>
</cp:coreProperties>
</file>