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3BF-D89C-4E15-AB55-2BEA9366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5AB-B2A8-4F23-9E43-A152639E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B10-A1B5-456B-B96D-66B3166D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785-89DD-4080-91A0-0A327409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177-FA53-4B6E-B12C-83C69DE8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E4F-B191-4B5B-B46D-2804CB1E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78A-9369-417C-9DDD-7D178819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4EA-E811-463A-93DD-1A75BCBF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6230-D64E-4F41-ACEE-83108A5C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774-1491-41A1-BF6E-F41BA0D0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4002-F9FC-4B9C-9A9C-234860E7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800B-CBD8-4D46-9956-078C1C50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7C5B-31CA-4BBA-81E2-DC0B39BB9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.bh/url?sa=i&amp;rct=j&amp;q=&amp;esrc=s&amp;frm=1&amp;source=images&amp;cd=&amp;docid=166QcpOSUhyHUM&amp;tbnid=xGTdLsIv8SYrQM:&amp;ved=0CAUQjRw&amp;url=http%3A%2F%2Fwww.biology-online.org%2Fbiology-forum%2Fabout13943.html&amp;ei=bghtUtjgLaOd0QXSsYCICg&amp;bvm=bv.55123115,d.bGE&amp;psig=AFQjCNGMqxSZomq0pbzz7KvqY5d0rIqF5w&amp;ust=1382963690288064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20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c0"/>
                </a:solidFill>
                <a:latin typeface="Arial Rounded MT Bold"/>
              </a:rPr>
              <a:t>Diffusion and Osmosis</a:t>
            </a:r>
            <a:br>
              <a:rPr sz="5000"/>
            </a:br>
            <a:r>
              <a:rPr b="1" lang="en-US" sz="5000" spc="-1" strike="noStrike">
                <a:solidFill>
                  <a:srgbClr val="0070c0"/>
                </a:solidFill>
                <a:latin typeface="Arial Rounded MT Bold"/>
              </a:rPr>
              <a:t> Across Plasma Membran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47246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Practical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www.scientechclub.org/images/KidneyFlow.jpg"/>
          <p:cNvPicPr/>
          <p:nvPr/>
        </p:nvPicPr>
        <p:blipFill>
          <a:blip r:embed="rId1"/>
          <a:stretch/>
        </p:blipFill>
        <p:spPr>
          <a:xfrm>
            <a:off x="0" y="-20520"/>
            <a:ext cx="912024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http://www.thevirtualnephrologist.com/mobile/Dialysis-G-TVN-Membran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Experiment (1) Diffu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286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e one end of the dialysis tub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ll the tube with 2.0 ml of starch sol. Tie the other en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t the tube in a beaker of water containing 20 drops of Iodi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te the color change after 15 minut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Dialysis Tub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http://1.bp.blogspot.com/-a-Km0JTbv7c/UF2_hmLtw5I/AAAAAAAADbI/CqCvDso8yrY/s1600/dialysis+tubing.jpg"/>
          <p:cNvPicPr/>
          <p:nvPr/>
        </p:nvPicPr>
        <p:blipFill>
          <a:blip r:embed="rId1"/>
          <a:stretch/>
        </p:blipFill>
        <p:spPr>
          <a:xfrm>
            <a:off x="4876920" y="1600200"/>
            <a:ext cx="373356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http://iws.collin.edu/mweis/Images/Models/2401models/cell%20models/cell%20models%20photo/cell_chem_dialysis_bag2.jpg"/>
          <p:cNvPicPr/>
          <p:nvPr/>
        </p:nvPicPr>
        <p:blipFill>
          <a:blip r:embed="rId2"/>
          <a:stretch/>
        </p:blipFill>
        <p:spPr>
          <a:xfrm>
            <a:off x="533520" y="1600200"/>
            <a:ext cx="4190760" cy="16002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6"/>
          <p:cNvGrpSpPr/>
          <p:nvPr/>
        </p:nvGrpSpPr>
        <p:grpSpPr>
          <a:xfrm>
            <a:off x="1066680" y="3276720"/>
            <a:ext cx="6705720" cy="3276360"/>
            <a:chOff x="1066680" y="3276720"/>
            <a:chExt cx="6705720" cy="3276360"/>
          </a:xfrm>
        </p:grpSpPr>
        <p:sp>
          <p:nvSpPr>
            <p:cNvPr id="76" name="Right Arrow 12"/>
            <p:cNvSpPr/>
            <p:nvPr/>
          </p:nvSpPr>
          <p:spPr>
            <a:xfrm>
              <a:off x="4038480" y="4952880"/>
              <a:ext cx="838080" cy="228600"/>
            </a:xfrm>
            <a:prstGeom prst="rightArrow">
              <a:avLst>
                <a:gd name="adj1" fmla="val 50000"/>
                <a:gd name="adj2" fmla="val 49985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15"/>
            <p:cNvGrpSpPr/>
            <p:nvPr/>
          </p:nvGrpSpPr>
          <p:grpSpPr>
            <a:xfrm>
              <a:off x="1066680" y="3276720"/>
              <a:ext cx="6705720" cy="3276360"/>
              <a:chOff x="1066680" y="3276720"/>
              <a:chExt cx="6705720" cy="3276360"/>
            </a:xfrm>
          </p:grpSpPr>
          <p:pic>
            <p:nvPicPr>
              <p:cNvPr id="78" name="Picture 10" descr="http://2.bp.blogspot.com/-ezOzIwI-GJw/UF2_ec1ogEI/AAAAAAAADa4/T5QNNYrDMps/s320/Diffsion+and+Osmosis+Biology+Lab.jpg"/>
              <p:cNvPicPr/>
              <p:nvPr/>
            </p:nvPicPr>
            <p:blipFill>
              <a:blip r:embed="rId3"/>
              <a:srcRect l="48104" t="0" r="0" b="0"/>
              <a:stretch/>
            </p:blipFill>
            <p:spPr>
              <a:xfrm>
                <a:off x="1066680" y="3276720"/>
                <a:ext cx="2743200" cy="32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11" descr="http://2.bp.blogspot.com/-ezOzIwI-GJw/UF2_ec1ogEI/AAAAAAAADa4/T5QNNYrDMps/s320/Diffsion+and+Osmosis+Biology+Lab.jpg"/>
              <p:cNvPicPr/>
              <p:nvPr/>
            </p:nvPicPr>
            <p:blipFill>
              <a:blip r:embed="rId4"/>
              <a:srcRect l="0" t="0" r="48919" b="0"/>
              <a:stretch/>
            </p:blipFill>
            <p:spPr>
              <a:xfrm>
                <a:off x="5029200" y="3276720"/>
                <a:ext cx="2743200" cy="32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TextBox 13"/>
              <p:cNvSpPr/>
              <p:nvPr/>
            </p:nvSpPr>
            <p:spPr>
              <a:xfrm>
                <a:off x="1066680" y="6107760"/>
                <a:ext cx="914400" cy="3682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Befo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Box 14"/>
              <p:cNvSpPr/>
              <p:nvPr/>
            </p:nvSpPr>
            <p:spPr>
              <a:xfrm>
                <a:off x="5029200" y="6184080"/>
                <a:ext cx="914400" cy="3682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ft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Osmosi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96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haroni"/>
                <a:ea typeface="Aharoni"/>
              </a:rPr>
              <a:t>Diffusion of water through membrane following its gradi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haroni"/>
                <a:ea typeface="Aharoni"/>
              </a:rPr>
              <a:t>From higher (H</a:t>
            </a:r>
            <a:r>
              <a:rPr b="1" lang="en-US" sz="3600" spc="-1" strike="noStrike" baseline="-25000">
                <a:solidFill>
                  <a:srgbClr val="17375e"/>
                </a:solidFill>
                <a:latin typeface="Aharoni"/>
                <a:ea typeface="Aharoni"/>
              </a:rPr>
              <a:t>2</a:t>
            </a:r>
            <a:r>
              <a:rPr b="1" lang="en-US" sz="3600" spc="-1" strike="noStrike">
                <a:solidFill>
                  <a:srgbClr val="17375e"/>
                </a:solidFill>
                <a:latin typeface="Aharoni"/>
                <a:ea typeface="Aharoni"/>
              </a:rPr>
              <a:t>O) gradient (</a:t>
            </a:r>
            <a:r>
              <a:rPr b="1" lang="en-US" sz="3600" spc="-1" strike="noStrike">
                <a:solidFill>
                  <a:srgbClr val="4f6228"/>
                </a:solidFill>
                <a:latin typeface="Aharoni"/>
                <a:ea typeface="Aharoni"/>
              </a:rPr>
              <a:t>hypotonic</a:t>
            </a:r>
            <a:r>
              <a:rPr b="1" lang="en-US" sz="3600" spc="-1" strike="noStrike">
                <a:solidFill>
                  <a:srgbClr val="17375e"/>
                </a:solidFill>
                <a:latin typeface="Aharoni"/>
                <a:ea typeface="Aharon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haroni"/>
                <a:ea typeface="Aharoni"/>
              </a:rPr>
              <a:t> </a:t>
            </a:r>
            <a:r>
              <a:rPr b="1" lang="en-US" sz="3600" spc="-1" strike="noStrike">
                <a:solidFill>
                  <a:srgbClr val="17375e"/>
                </a:solidFill>
                <a:latin typeface="Aharoni"/>
                <a:ea typeface="Aharoni"/>
              </a:rPr>
              <a:t>to lower (H</a:t>
            </a:r>
            <a:r>
              <a:rPr b="1" lang="en-US" sz="3600" spc="-1" strike="noStrike" baseline="-25000">
                <a:solidFill>
                  <a:srgbClr val="17375e"/>
                </a:solidFill>
                <a:latin typeface="Aharoni"/>
                <a:ea typeface="Aharoni"/>
              </a:rPr>
              <a:t>2</a:t>
            </a:r>
            <a:r>
              <a:rPr b="1" lang="en-US" sz="3600" spc="-1" strike="noStrike">
                <a:solidFill>
                  <a:srgbClr val="17375e"/>
                </a:solidFill>
                <a:latin typeface="Aharoni"/>
                <a:ea typeface="Aharoni"/>
              </a:rPr>
              <a:t>O) gradient (</a:t>
            </a:r>
            <a:r>
              <a:rPr b="1" lang="en-US" sz="3600" spc="-1" strike="noStrike">
                <a:solidFill>
                  <a:srgbClr val="4f6228"/>
                </a:solidFill>
                <a:latin typeface="Aharoni"/>
                <a:ea typeface="Aharoni"/>
              </a:rPr>
              <a:t>hypertonic</a:t>
            </a:r>
            <a:r>
              <a:rPr b="1" lang="en-US" sz="3600" spc="-1" strike="noStrike">
                <a:solidFill>
                  <a:srgbClr val="17375e"/>
                </a:solidFill>
                <a:latin typeface="Aharoni"/>
                <a:ea typeface="Aharon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http://keepinapbiologyreal.wikispaces.com/file/view/osmosis.gif/165682427/osmosis.gif"/>
          <p:cNvPicPr/>
          <p:nvPr/>
        </p:nvPicPr>
        <p:blipFill>
          <a:blip r:embed="rId1"/>
          <a:srcRect l="21476" t="26586" r="68435" b="58915"/>
          <a:stretch/>
        </p:blipFill>
        <p:spPr>
          <a:xfrm>
            <a:off x="4648320" y="5867280"/>
            <a:ext cx="600120" cy="4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86" name="Group 9"/>
          <p:cNvGrpSpPr/>
          <p:nvPr/>
        </p:nvGrpSpPr>
        <p:grpSpPr>
          <a:xfrm>
            <a:off x="0" y="1371600"/>
            <a:ext cx="9144000" cy="5105520"/>
            <a:chOff x="0" y="1371600"/>
            <a:chExt cx="9144000" cy="5105520"/>
          </a:xfrm>
        </p:grpSpPr>
        <p:pic>
          <p:nvPicPr>
            <p:cNvPr id="87" name="Picture 3" descr="http://keepinapbiologyreal.wikispaces.com/file/view/osmosis.gif/165682427/osmosis.gif"/>
            <p:cNvPicPr/>
            <p:nvPr/>
          </p:nvPicPr>
          <p:blipFill>
            <a:blip r:embed="rId2"/>
            <a:stretch/>
          </p:blipFill>
          <p:spPr>
            <a:xfrm>
              <a:off x="0" y="1371600"/>
              <a:ext cx="9144000" cy="510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Group 8"/>
            <p:cNvGrpSpPr/>
            <p:nvPr/>
          </p:nvGrpSpPr>
          <p:grpSpPr>
            <a:xfrm>
              <a:off x="5257800" y="5867640"/>
              <a:ext cx="3657600" cy="444240"/>
              <a:chOff x="5257800" y="5867640"/>
              <a:chExt cx="3657600" cy="444240"/>
            </a:xfrm>
          </p:grpSpPr>
          <p:pic>
            <p:nvPicPr>
              <p:cNvPr id="89" name="Picture 5" descr="http://keepinapbiologyreal.wikispaces.com/file/view/osmosis.gif/165682427/osmosis.gif"/>
              <p:cNvPicPr/>
              <p:nvPr/>
            </p:nvPicPr>
            <p:blipFill>
              <a:blip r:embed="rId3"/>
              <a:srcRect l="10418" t="59822" r="82537" b="26586"/>
              <a:stretch/>
            </p:blipFill>
            <p:spPr>
              <a:xfrm>
                <a:off x="6629400" y="5867640"/>
                <a:ext cx="419040" cy="4287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90" name="TextBox 6"/>
              <p:cNvSpPr/>
              <p:nvPr/>
            </p:nvSpPr>
            <p:spPr>
              <a:xfrm>
                <a:off x="5257800" y="594360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wat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Box 7"/>
              <p:cNvSpPr/>
              <p:nvPr/>
            </p:nvSpPr>
            <p:spPr>
              <a:xfrm>
                <a:off x="7086600" y="594360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Sugar molecu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Hypotonic &amp; Hypertonic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160" y="27432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ypotonic                  Contains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les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olute and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more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solvent. (e.g. highe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ient of wat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ypertonic                 Contains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mo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olute and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les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solvent. (e.g. lowe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ient of wat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2819160" y="3048120"/>
            <a:ext cx="1219320" cy="1754280"/>
            <a:chOff x="2819160" y="3048120"/>
            <a:chExt cx="1219320" cy="1754280"/>
          </a:xfrm>
        </p:grpSpPr>
        <p:cxnSp>
          <p:nvCxnSpPr>
            <p:cNvPr id="95" name="Straight Arrow Connector 4"/>
            <p:cNvCxnSpPr/>
            <p:nvPr/>
          </p:nvCxnSpPr>
          <p:spPr>
            <a:xfrm>
              <a:off x="2819160" y="3048120"/>
              <a:ext cx="1143720" cy="2160"/>
            </a:xfrm>
            <a:prstGeom prst="straightConnector1">
              <a:avLst/>
            </a:prstGeom>
            <a:ln w="5724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96" name="Straight Arrow Connector 5"/>
            <p:cNvCxnSpPr/>
            <p:nvPr/>
          </p:nvCxnSpPr>
          <p:spPr>
            <a:xfrm>
              <a:off x="2895120" y="4800600"/>
              <a:ext cx="1143720" cy="2160"/>
            </a:xfrm>
            <a:prstGeom prst="straightConnector1">
              <a:avLst/>
            </a:prstGeom>
            <a:ln w="57240">
              <a:solidFill>
                <a:srgbClr val="00206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http://bio520.files.wordpress.com/2011/02/iso1.gif"/>
          <p:cNvPicPr/>
          <p:nvPr/>
        </p:nvPicPr>
        <p:blipFill>
          <a:blip r:embed="rId1"/>
          <a:stretch/>
        </p:blipFill>
        <p:spPr>
          <a:xfrm>
            <a:off x="152280" y="380880"/>
            <a:ext cx="411480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Picture 4" descr="http://bio520.files.wordpress.com/2011/02/hyp1.gif"/>
          <p:cNvPicPr/>
          <p:nvPr/>
        </p:nvPicPr>
        <p:blipFill>
          <a:blip r:embed="rId2"/>
          <a:stretch/>
        </p:blipFill>
        <p:spPr>
          <a:xfrm>
            <a:off x="4419720" y="380880"/>
            <a:ext cx="426708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Picture 5" descr="http://www.meise.com/english/bilder/haemodialyse_4.jpg"/>
          <p:cNvPicPr/>
          <p:nvPr/>
        </p:nvPicPr>
        <p:blipFill>
          <a:blip r:embed="rId3"/>
          <a:stretch/>
        </p:blipFill>
        <p:spPr>
          <a:xfrm>
            <a:off x="1523880" y="3316320"/>
            <a:ext cx="594540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www.chem.ufl.edu/~itl/4411/colligative/FG13_022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http://bio520.files.wordpress.com/2011/02/globulos-rojos-osmosis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2860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Movement of molecules through membran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Solvents and solutes molecu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Passive movement (no Energ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http://environmentsofcells.wikispaces.com/file/view/800px-Diffusion_en_svg.png/217225506/800px-Diffusion_en_svg.png"/>
          <p:cNvPicPr/>
          <p:nvPr/>
        </p:nvPicPr>
        <p:blipFill>
          <a:blip r:embed="rId1"/>
          <a:stretch/>
        </p:blipFill>
        <p:spPr>
          <a:xfrm>
            <a:off x="762120" y="3200400"/>
            <a:ext cx="7467480" cy="3200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 rot="19011000">
            <a:off x="6483960" y="1067040"/>
            <a:ext cx="26668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nprior"/>
              </a:rPr>
              <a:t>C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http://images.wisegeek.com/osmosis-plant-diagram.jpg"/>
          <p:cNvPicPr/>
          <p:nvPr/>
        </p:nvPicPr>
        <p:blipFill>
          <a:blip r:embed="rId1"/>
          <a:stretch/>
        </p:blipFill>
        <p:spPr>
          <a:xfrm>
            <a:off x="2133720" y="0"/>
            <a:ext cx="541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https://c479107.ssl.cf2.rackcdn.com/files/2123/width668/wrinkledjp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Experiment (2) Osmosi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86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ie one end of the dialysis tub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ll the tube with sucrose sol. Tie the other end leaving space in the tub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ith ruler measure the height of solu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ut the tube in a beaker of wat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 the change in solution height after 30-45 minute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Diffus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haroni"/>
                <a:ea typeface="Aharoni"/>
              </a:rPr>
              <a:t>Movement of salt molecules from higher to lower concent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http://apbrwww5.apsu.edu/thompsonj/Anatomy%20&amp;%20Physiology/2010/2010%20Exam%20Reviews/Exam%201%20Review/simple_diffusion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553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048120" y="68580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ffusion of  Molecules and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http://apbrwww5.apsu.edu/thompsonj/Anatomy%20&amp;%20Physiology/2010/2010%20Exam%20Reviews/Exam%201%20Review/simple_diffusion.gif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emi- permeabilit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Diffusion through a semipermeable membrane"/>
          <p:cNvPicPr/>
          <p:nvPr/>
        </p:nvPicPr>
        <p:blipFill>
          <a:blip r:embed="rId1"/>
          <a:stretch/>
        </p:blipFill>
        <p:spPr>
          <a:xfrm>
            <a:off x="152280" y="1676520"/>
            <a:ext cx="8839440" cy="5029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152280" y="1143000"/>
            <a:ext cx="883944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ubstances may pass and others do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Dialysis Tub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http://1.bp.blogspot.com/-a-Km0JTbv7c/UF2_hmLtw5I/AAAAAAAADbI/CqCvDso8yrY/s1600/dialysis+tubing.jpg"/>
          <p:cNvPicPr/>
          <p:nvPr/>
        </p:nvPicPr>
        <p:blipFill>
          <a:blip r:embed="rId1"/>
          <a:stretch/>
        </p:blipFill>
        <p:spPr>
          <a:xfrm>
            <a:off x="4876920" y="1600200"/>
            <a:ext cx="373356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://iws.collin.edu/mweis/Images/Models/2401models/cell%20models/cell%20models%20photo/cell_chem_dialysis_bag2.jpg"/>
          <p:cNvPicPr/>
          <p:nvPr/>
        </p:nvPicPr>
        <p:blipFill>
          <a:blip r:embed="rId2"/>
          <a:stretch/>
        </p:blipFill>
        <p:spPr>
          <a:xfrm>
            <a:off x="533520" y="1600200"/>
            <a:ext cx="4190760" cy="16002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16"/>
          <p:cNvGrpSpPr/>
          <p:nvPr/>
        </p:nvGrpSpPr>
        <p:grpSpPr>
          <a:xfrm>
            <a:off x="1066680" y="3276720"/>
            <a:ext cx="6705720" cy="3276360"/>
            <a:chOff x="1066680" y="3276720"/>
            <a:chExt cx="6705720" cy="3276360"/>
          </a:xfrm>
        </p:grpSpPr>
        <p:sp>
          <p:nvSpPr>
            <p:cNvPr id="58" name="Right Arrow 12"/>
            <p:cNvSpPr/>
            <p:nvPr/>
          </p:nvSpPr>
          <p:spPr>
            <a:xfrm>
              <a:off x="4038480" y="4952880"/>
              <a:ext cx="838080" cy="228600"/>
            </a:xfrm>
            <a:prstGeom prst="rightArrow">
              <a:avLst>
                <a:gd name="adj1" fmla="val 50000"/>
                <a:gd name="adj2" fmla="val 49985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5"/>
            <p:cNvGrpSpPr/>
            <p:nvPr/>
          </p:nvGrpSpPr>
          <p:grpSpPr>
            <a:xfrm>
              <a:off x="1066680" y="3276720"/>
              <a:ext cx="6705720" cy="3276360"/>
              <a:chOff x="1066680" y="3276720"/>
              <a:chExt cx="6705720" cy="3276360"/>
            </a:xfrm>
          </p:grpSpPr>
          <p:pic>
            <p:nvPicPr>
              <p:cNvPr id="60" name="Picture 10" descr="http://2.bp.blogspot.com/-ezOzIwI-GJw/UF2_ec1ogEI/AAAAAAAADa4/T5QNNYrDMps/s320/Diffsion+and+Osmosis+Biology+Lab.jpg"/>
              <p:cNvPicPr/>
              <p:nvPr/>
            </p:nvPicPr>
            <p:blipFill>
              <a:blip r:embed="rId3"/>
              <a:srcRect l="48104" t="0" r="0" b="0"/>
              <a:stretch/>
            </p:blipFill>
            <p:spPr>
              <a:xfrm>
                <a:off x="1066680" y="3276720"/>
                <a:ext cx="2743200" cy="32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11" descr="http://2.bp.blogspot.com/-ezOzIwI-GJw/UF2_ec1ogEI/AAAAAAAADa4/T5QNNYrDMps/s320/Diffsion+and+Osmosis+Biology+Lab.jpg"/>
              <p:cNvPicPr/>
              <p:nvPr/>
            </p:nvPicPr>
            <p:blipFill>
              <a:blip r:embed="rId4"/>
              <a:srcRect l="0" t="0" r="48919" b="0"/>
              <a:stretch/>
            </p:blipFill>
            <p:spPr>
              <a:xfrm>
                <a:off x="5029200" y="3276720"/>
                <a:ext cx="2743200" cy="32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TextBox 13"/>
              <p:cNvSpPr/>
              <p:nvPr/>
            </p:nvSpPr>
            <p:spPr>
              <a:xfrm>
                <a:off x="1066680" y="6107760"/>
                <a:ext cx="914400" cy="3682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Befo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Box 14"/>
              <p:cNvSpPr/>
              <p:nvPr/>
            </p:nvSpPr>
            <p:spPr>
              <a:xfrm>
                <a:off x="5029200" y="6184080"/>
                <a:ext cx="914400" cy="3682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ft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3" descr="For PD, a catheter and simple tubing circuit are all what you need to perform Peritoneal Dialysis YES, IT IS THAT SIMPLE"/>
          <p:cNvPicPr/>
          <p:nvPr/>
        </p:nvPicPr>
        <p:blipFill>
          <a:blip r:embed="rId1"/>
          <a:stretch/>
        </p:blipFill>
        <p:spPr>
          <a:xfrm>
            <a:off x="4267080" y="1143000"/>
            <a:ext cx="4648320" cy="548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It is a fill bag and a drain bag, with tubing to connect to the Peritoneal Dialysis Catheter. Peritoneal Dialysis is performed while you are relaxed."/>
          <p:cNvPicPr/>
          <p:nvPr/>
        </p:nvPicPr>
        <p:blipFill>
          <a:blip r:embed="rId2"/>
          <a:stretch/>
        </p:blipFill>
        <p:spPr>
          <a:xfrm>
            <a:off x="228600" y="1143000"/>
            <a:ext cx="36576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228600" y="152280"/>
            <a:ext cx="464832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Uses of Diffu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3" descr="http://www.baxter.co.nz/images/patients_and_caregivers/therapies/renal/treatment-end_clip_image005.jpg"/>
          <p:cNvPicPr/>
          <p:nvPr/>
        </p:nvPicPr>
        <p:blipFill>
          <a:blip r:embed="rId1"/>
          <a:stretch/>
        </p:blipFill>
        <p:spPr>
          <a:xfrm>
            <a:off x="1752480" y="76320"/>
            <a:ext cx="556272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07:04:14Z</dcterms:created>
  <dc:creator>aliem</dc:creator>
  <dc:description/>
  <dc:language>en-US</dc:language>
  <cp:lastModifiedBy>aliem</cp:lastModifiedBy>
  <dcterms:modified xsi:type="dcterms:W3CDTF">2013-10-27T12:37:30Z</dcterms:modified>
  <cp:revision>42</cp:revision>
  <dc:subject/>
  <dc:title>Slide 1</dc:title>
</cp:coreProperties>
</file>