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976B-8C60-4404-91A6-B762145FE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330C-8EB8-48B8-BD29-A6C2B6766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34672-FE97-4D05-B7DE-57D640D3A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414D9-D25E-4902-AD7C-BD1E36D74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9D0B6-76DA-4218-8B10-BD3E15385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1CBA8-FF89-4B64-8508-C84E7EA14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DB6B2E-294F-401E-B4C4-78FA2229B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0A488-3B2D-4944-8F62-B0247F995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88BC4-C8F6-4DE0-8E9A-206B776B0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F64F8-1E11-4806-A3B8-5F6D3DAF3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B5E14-A281-48DF-94AD-9FAC8CDBB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AF7C3-8B1A-4D1E-B684-73BA868F1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CCF59-A4C4-4C92-8893-59E169E5B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00DB1-330C-42FF-AA04-DC3FBF5AF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2D867-F7CC-4F8A-822A-3607659BF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B79FE-0E54-41E7-9C0B-A1857E3CF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A4D85-9216-40B6-A429-74A7A764C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F62A4-D41A-45F3-8B84-67293A6E60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CCDF67-6777-45EF-9103-E83211F9AF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91A55B-BD22-46A2-A507-F8D612CED1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DB13FE-AB14-43BD-AB43-9623A1B152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7D3708-AB03-4720-A2F7-B7BF5D3B3B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9E2356-38CD-4690-A69E-1C31FBC753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651693-09F2-4373-ACB8-5497B5A945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F6C92-B86B-43A7-9C61-9CECC9BCC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1242B8-F0D3-447F-A338-D8A2FD273E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EF28D0-3E8E-4073-A586-0959C117CF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B497C1-3E7B-48B5-833D-1B05C34F5B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CA19DF-FFFC-49B0-BAAC-C809D3FA44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2DCA61-78C3-4F3E-846A-D1C6AB50F9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AEE2C0-DDBF-4FE1-9467-32E3552BFF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A996B4-C1B9-49F2-BEC3-C94E960C88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ADF27-478D-40B0-B5E7-583F43989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96892-2D68-4A9E-B5EF-D4EA4022F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073D7-FC55-420C-A6B1-CA0522297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4A947-4DEF-46D6-88D0-A0AF26392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58EA2-FDCA-4955-AB8F-57C0F946A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3EEF8-F76B-495D-85C0-6CD2E25B3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7F50-FA38-403D-8769-DB13485C128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28764-E437-46D4-9E57-D534EAA8899C}"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06AD-73BB-4232-A38E-9E3153767A9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ga.vn/dictview.aspx?id=2089" TargetMode="External"/><Relationship Id="rId3" Type="http://schemas.openxmlformats.org/officeDocument/2006/relationships/hyperlink" Target="http://www.saga.vn/dictview.aspx?id=2089" TargetMode="External"/><Relationship Id="rId4" Type="http://schemas.openxmlformats.org/officeDocument/2006/relationships/hyperlink" Target="http://www.saga.vn/dictview.aspx?id=2089" TargetMode="External"/><Relationship Id="rId5" Type="http://schemas.openxmlformats.org/officeDocument/2006/relationships/hyperlink" Target="http://www.saga.vn/dictview.aspx?id=2089" TargetMode="External"/><Relationship Id="rId6" Type="http://schemas.openxmlformats.org/officeDocument/2006/relationships/hyperlink" Target="http://www.saga.vn/dictview.aspx?id=2089" TargetMode="External"/><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352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4617b"/>
                </a:solidFill>
                <a:latin typeface="Calibri"/>
              </a:rPr>
              <a:t>Đề tài: Phân tích xếp hạng tín nhiệm các tổ chức phát hành chứng khoán.</a:t>
            </a:r>
            <a:endParaRPr b="0" lang="en-US" sz="4600" spc="-1" strike="noStrike">
              <a:solidFill>
                <a:srgbClr val="04617b"/>
              </a:solidFill>
              <a:latin typeface="Calibri"/>
            </a:endParaRPr>
          </a:p>
        </p:txBody>
      </p:sp>
      <p:sp>
        <p:nvSpPr>
          <p:cNvPr id="153" name="PlaceHolder 2"/>
          <p:cNvSpPr>
            <a:spLocks noGrp="1"/>
          </p:cNvSpPr>
          <p:nvPr>
            <p:ph/>
          </p:nvPr>
        </p:nvSpPr>
        <p:spPr>
          <a:xfrm>
            <a:off x="457200" y="2133360"/>
            <a:ext cx="8229600" cy="4190760"/>
          </a:xfrm>
          <a:prstGeom prst="rect">
            <a:avLst/>
          </a:prstGeom>
          <a:noFill/>
          <a:ln w="0">
            <a:noFill/>
          </a:ln>
        </p:spPr>
        <p:txBody>
          <a:bodyPr lIns="90000" rIns="90000" tIns="46800" bIns="46800"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iảng viên: Ths Nguyễn Thành Huyên</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nh sách nhóm:</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guyễn Hồng Phước           10660218</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ê Thị Hồng Nhung            40662170</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àng Đinh Phương Thảo  40662306</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rPr>
              <a:t>Ư</a:t>
            </a:r>
            <a:r>
              <a:rPr b="0" lang="en-US" sz="5000" spc="-1" strike="noStrike">
                <a:solidFill>
                  <a:srgbClr val="04617b"/>
                </a:solidFill>
                <a:latin typeface="Calibri"/>
              </a:rPr>
              <a:t>ớc tính hệ số tín nhiệm</a:t>
            </a: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Đối với doanh nghiệp đã cổ phần hoá, ngành sản suất:</a:t>
            </a:r>
            <a:r>
              <a:rPr b="0" i="1" lang="en-US" sz="2600" spc="-1" strike="noStrike">
                <a:solidFill>
                  <a:srgbClr val="000000"/>
                </a:solidFill>
                <a:latin typeface="Constantia"/>
              </a:rPr>
              <a:t> </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Z = 1.2x1 + 1.4x2 + 3.3x3 + 0.64x4 + 0.999x5 </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ếu  Z &gt; 2.99           Doanh nghiệp nằm trong vùng an toàn, chưa có nguy cơ phá sản</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ếu 1.8 &lt; Z &lt; 2.99    Doanh nghiệp nằm trong vùng cảnh báo, có thể có nguy cơ phá sản </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ếu  Z &lt;1.8:             Doanh nghiệp nằm trong vùng nguy hiểm, nguy cơ phá sản cao. </a:t>
            </a:r>
            <a:endParaRPr b="0" lang="en-US" sz="2600" spc="-1" strike="noStrike">
              <a:solidFill>
                <a:srgbClr val="000000"/>
              </a:solidFill>
              <a:latin typeface="Constantia"/>
            </a:endParaRPr>
          </a:p>
          <a:p>
            <a:pPr marL="2700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rPr>
              <a:t>Ư</a:t>
            </a:r>
            <a:r>
              <a:rPr b="0" lang="en-US" sz="5000" spc="-1" strike="noStrike">
                <a:solidFill>
                  <a:srgbClr val="04617b"/>
                </a:solidFill>
                <a:latin typeface="Calibri"/>
              </a:rPr>
              <a:t>ớc tính hệ số tín nhiệm</a:t>
            </a: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Đối với doanh nghiệp chưa cổ phần hoá, ngành sản suất:</a:t>
            </a:r>
            <a:r>
              <a:rPr b="0" i="1" lang="en-US" sz="2600" spc="-1" strike="noStrike">
                <a:solidFill>
                  <a:srgbClr val="000000"/>
                </a:solidFill>
                <a:latin typeface="Constantia"/>
              </a:rPr>
              <a:t>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Z’ = 0.717X</a:t>
            </a:r>
            <a:r>
              <a:rPr b="0" lang="en-US" sz="2600" spc="-1" strike="noStrike" baseline="-25000">
                <a:solidFill>
                  <a:srgbClr val="000000"/>
                </a:solidFill>
                <a:latin typeface="Constantia"/>
              </a:rPr>
              <a:t>1</a:t>
            </a:r>
            <a:r>
              <a:rPr b="0" lang="en-US" sz="2600" spc="-1" strike="noStrike">
                <a:solidFill>
                  <a:srgbClr val="000000"/>
                </a:solidFill>
                <a:latin typeface="Constantia"/>
              </a:rPr>
              <a:t> + 0.847X</a:t>
            </a:r>
            <a:r>
              <a:rPr b="0" lang="en-US" sz="2600" spc="-1" strike="noStrike" baseline="-25000">
                <a:solidFill>
                  <a:srgbClr val="000000"/>
                </a:solidFill>
                <a:latin typeface="Constantia"/>
              </a:rPr>
              <a:t>2</a:t>
            </a:r>
            <a:r>
              <a:rPr b="0" lang="en-US" sz="2600" spc="-1" strike="noStrike">
                <a:solidFill>
                  <a:srgbClr val="000000"/>
                </a:solidFill>
                <a:latin typeface="Constantia"/>
              </a:rPr>
              <a:t> + 3.107X</a:t>
            </a:r>
            <a:r>
              <a:rPr b="0" lang="en-US" sz="2600" spc="-1" strike="noStrike" baseline="-25000">
                <a:solidFill>
                  <a:srgbClr val="000000"/>
                </a:solidFill>
                <a:latin typeface="Constantia"/>
              </a:rPr>
              <a:t>3</a:t>
            </a:r>
            <a:r>
              <a:rPr b="0" lang="en-US" sz="2600" spc="-1" strike="noStrike">
                <a:solidFill>
                  <a:srgbClr val="000000"/>
                </a:solidFill>
                <a:latin typeface="Constantia"/>
              </a:rPr>
              <a:t> + 0.42X</a:t>
            </a:r>
            <a:r>
              <a:rPr b="0" lang="en-US" sz="2600" spc="-1" strike="noStrike" baseline="-25000">
                <a:solidFill>
                  <a:srgbClr val="000000"/>
                </a:solidFill>
                <a:latin typeface="Constantia"/>
              </a:rPr>
              <a:t>4</a:t>
            </a:r>
            <a:r>
              <a:rPr b="0" lang="en-US" sz="2600" spc="-1" strike="noStrike">
                <a:solidFill>
                  <a:srgbClr val="000000"/>
                </a:solidFill>
                <a:latin typeface="Constantia"/>
              </a:rPr>
              <a:t> + 0.998X</a:t>
            </a:r>
            <a:r>
              <a:rPr b="0" lang="en-US" sz="2600" spc="-1" strike="noStrike" baseline="-25000">
                <a:solidFill>
                  <a:srgbClr val="000000"/>
                </a:solidFill>
                <a:latin typeface="Constantia"/>
              </a:rPr>
              <a:t>5</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ếu  Z’ &gt; 2.9:              Doanh nghiệp nằm trong vùng an toàn, chưa có nguy cơ phá sản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ếu  1.23 &lt; Z’ &lt; 2.9:    Doanh nghiệp nằm trong vùng cảnh báo, có thể có nguy cơ phá sản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ếu  Z’ &lt;1.23:               Doanh nghiệp nằm trong vùng nguy hiểm, nguy cơ phá sản cao. </a:t>
            </a:r>
            <a:endParaRPr b="0" lang="en-US" sz="2600" spc="-1" strike="noStrike">
              <a:solidFill>
                <a:srgbClr val="000000"/>
              </a:solidFill>
              <a:latin typeface="Constantia"/>
            </a:endParaRPr>
          </a:p>
          <a:p>
            <a:pPr marL="2646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rPr>
              <a:t>Ư</a:t>
            </a:r>
            <a:r>
              <a:rPr b="0" lang="en-US" sz="5000" spc="-1" strike="noStrike">
                <a:solidFill>
                  <a:srgbClr val="04617b"/>
                </a:solidFill>
                <a:latin typeface="Calibri"/>
              </a:rPr>
              <a:t>ớc tính hệ số tín nhiệm</a:t>
            </a: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Đối với các doanh nghiệp khác:</a:t>
            </a:r>
            <a:r>
              <a:rPr b="0" i="1" lang="en-US"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hỉ số Z’’ dưới đây có thể được dùng cho hầu hết các ngành, các loại hình doanh nghiệp. Vì sự khác nhau khá lớn của X5 giữa các ngành, nên X5 đã được đưa ra. Công thức tính chỉ số Z’’ được điều chỉnh như sau </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Z’’ = 6.56x1 + 3.26x2 + 6.72x3 + 1.05x4 </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ếu  Z’’ &gt; 2.6                 Doanh nghiệp nằm trong vùng an toàn, chưa có nguy cơ phá sản </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ếu   1.2 &lt; Z’’ &lt; 2.6       Doanh nghiệp nằm trong vùng cảnh báo, có thể có nguy cơ phá sản </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ếu    Z &lt;1.1                 Doanh nghiệp nằm trong vùng nguy hiểm, nguy cơ phá sản cao. </a:t>
            </a:r>
            <a:endParaRPr b="0" lang="en-US" sz="2200" spc="-1" strike="noStrike">
              <a:solidFill>
                <a:srgbClr val="000000"/>
              </a:solidFill>
              <a:latin typeface="Constantia"/>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ea typeface="Arial"/>
              </a:rPr>
              <a:t>Ư</a:t>
            </a:r>
            <a:r>
              <a:rPr b="0" lang="en-US" sz="5000" spc="-1" strike="noStrike">
                <a:solidFill>
                  <a:srgbClr val="04617b"/>
                </a:solidFill>
                <a:latin typeface="Arial"/>
                <a:ea typeface="Arial"/>
              </a:rPr>
              <a:t>ớc tính hệ số tín nhiệm</a:t>
            </a:r>
            <a:endParaRPr b="0" lang="en-US" sz="5000" spc="-1" strike="noStrike">
              <a:solidFill>
                <a:srgbClr val="04617b"/>
              </a:solidFill>
              <a:latin typeface="Calibri"/>
            </a:endParaRPr>
          </a:p>
        </p:txBody>
      </p:sp>
      <p:sp>
        <p:nvSpPr>
          <p:cNvPr id="17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ếu         Z’’ &gt; 2.6                 Doanh nghiệp nằm trong vùng an toàn, chưa có nguy cơ phá sản </a:t>
            </a:r>
            <a:endParaRPr b="0" lang="en-US" sz="3200" spc="-1" strike="noStrike">
              <a:solidFill>
                <a:srgbClr val="000000"/>
              </a:solidFill>
              <a:latin typeface="Constantia"/>
            </a:endParaRPr>
          </a:p>
          <a:p>
            <a:pPr marL="253440" indent="-25344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ếu         1.1 &lt; Z’’ &lt; 2.6       Doanh nghiệp nằm trong vùng cảnh báo, có thể có nguy cơ phá sản </a:t>
            </a:r>
            <a:endParaRPr b="0" lang="en-US" sz="3200" spc="-1" strike="noStrike">
              <a:solidFill>
                <a:srgbClr val="000000"/>
              </a:solidFill>
              <a:latin typeface="Constantia"/>
            </a:endParaRPr>
          </a:p>
          <a:p>
            <a:pPr marL="253440" indent="-25344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ếu         Z’’ &lt;1.1                  Doanh nghiệp nằm trong vùng nguy hiểm, nguy cơ phá sản cao. </a:t>
            </a:r>
            <a:endParaRPr b="0" lang="en-US" sz="3200" spc="-1" strike="noStrike">
              <a:solidFill>
                <a:srgbClr val="000000"/>
              </a:solidFill>
              <a:latin typeface="Constantia"/>
            </a:endParaRPr>
          </a:p>
          <a:p>
            <a:pPr marL="253440" indent="-25344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rPr>
              <a:t>Ư</a:t>
            </a:r>
            <a:r>
              <a:rPr b="0" lang="en-US" sz="5000" spc="-1" strike="noStrike">
                <a:solidFill>
                  <a:srgbClr val="04617b"/>
                </a:solidFill>
                <a:latin typeface="Calibri"/>
              </a:rPr>
              <a:t>ớc tính hệ số tín nhiệm</a:t>
            </a:r>
            <a:endParaRPr b="0" lang="en-US" sz="5000" spc="-1" strike="noStrike">
              <a:solidFill>
                <a:srgbClr val="04617b"/>
              </a:solidFill>
              <a:latin typeface="Calibri"/>
            </a:endParaRPr>
          </a:p>
        </p:txBody>
      </p:sp>
      <p:sp>
        <p:nvSpPr>
          <p:cNvPr id="179" name=""/>
          <p:cNvSpPr txBox="1"/>
          <p:nvPr/>
        </p:nvSpPr>
        <p:spPr>
          <a:xfrm>
            <a:off x="380880" y="198072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ệ số Z điều chỉnh</a:t>
            </a:r>
            <a:r>
              <a:rPr b="0" lang="en-US" sz="2600" spc="-1" strike="noStrike">
                <a:solidFill>
                  <a:srgbClr val="000000"/>
                </a:solidFill>
                <a:latin typeface="Constantia"/>
              </a:rPr>
              <a:t>: </a:t>
            </a:r>
            <a:r>
              <a:rPr b="0" lang="en-US" sz="3200" spc="-1" strike="noStrike">
                <a:solidFill>
                  <a:srgbClr val="000000"/>
                </a:solidFill>
                <a:latin typeface="Arial"/>
                <a:ea typeface="Arial"/>
              </a:rPr>
              <a:t>Z’’+3,25</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Z hiệu chỉnh = 3,25 + 6,56X1 + 3,26X2 + 6,72X3 + 1,05X4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533160"/>
            <a:ext cx="8229600" cy="6872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ea typeface="Arial"/>
              </a:rPr>
              <a:t>Hệ số Z’’ điều chỉnh</a:t>
            </a:r>
            <a:endParaRPr b="0" lang="en-US" sz="5000" spc="-1" strike="noStrike">
              <a:solidFill>
                <a:srgbClr val="04617b"/>
              </a:solidFill>
              <a:latin typeface="Calibri"/>
            </a:endParaRPr>
          </a:p>
        </p:txBody>
      </p:sp>
      <p:graphicFrame>
        <p:nvGraphicFramePr>
          <p:cNvPr id="181" name=""/>
          <p:cNvGraphicFramePr/>
          <p:nvPr/>
        </p:nvGraphicFramePr>
        <p:xfrm>
          <a:off x="457200" y="1219320"/>
          <a:ext cx="8305920" cy="5425920"/>
        </p:xfrm>
        <a:graphic>
          <a:graphicData uri="http://schemas.openxmlformats.org/drawingml/2006/table">
            <a:tbl>
              <a:tblPr/>
              <a:tblGrid>
                <a:gridCol w="1660680"/>
                <a:gridCol w="1662120"/>
                <a:gridCol w="1660320"/>
                <a:gridCol w="1662120"/>
                <a:gridCol w="1660680"/>
              </a:tblGrid>
              <a:tr h="121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Z’’ điều chìn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Định mức tín nhiệm S&amp;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Định mức tín nhiệm Moody’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rowSpan="9">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oanh nghiệp nằm trong vùng an toàn, chưa có nguy cơ phá sả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t;8,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9">
                  <a: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ái phiếu có thể đầu tư</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60-8,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30-7,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00-7,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85-7,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Á</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4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65-6,8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4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40-6,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25-6,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B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a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85-6,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B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a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457200"/>
            <a:ext cx="8229600" cy="7812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ea typeface="Arial"/>
              </a:rPr>
              <a:t>Hệ số Z’’ điều chỉnh</a:t>
            </a:r>
            <a:endParaRPr b="0" lang="en-US" sz="5000" spc="-1" strike="noStrike">
              <a:solidFill>
                <a:srgbClr val="04617b"/>
              </a:solidFill>
              <a:latin typeface="Calibri"/>
            </a:endParaRPr>
          </a:p>
        </p:txBody>
      </p:sp>
      <p:graphicFrame>
        <p:nvGraphicFramePr>
          <p:cNvPr id="183" name=""/>
          <p:cNvGraphicFramePr/>
          <p:nvPr/>
        </p:nvGraphicFramePr>
        <p:xfrm>
          <a:off x="380880" y="1330200"/>
          <a:ext cx="8229600" cy="5253120"/>
        </p:xfrm>
        <a:graphic>
          <a:graphicData uri="http://schemas.openxmlformats.org/drawingml/2006/table">
            <a:tbl>
              <a:tblPr/>
              <a:tblGrid>
                <a:gridCol w="1646280"/>
                <a:gridCol w="1325520"/>
                <a:gridCol w="1752840"/>
                <a:gridCol w="1676160"/>
                <a:gridCol w="182880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 điều chìn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Định mức tín nhiệm S&amp;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Định mức tín nhiệm Moody’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anh nghiệp nằm trong vùng cảnh báo, có thể có nguy cơ phá sả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5,65 – 5,85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BB</a:t>
                      </a:r>
                      <a:r>
                        <a:rPr b="1" lang="en-US" sz="1800" spc="-1" strike="noStrike" baseline="30000">
                          <a:solidFill>
                            <a:srgbClr val="000066"/>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Baa3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ái phiếu có thể đầu tư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5,25 – 5,65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B</a:t>
                      </a:r>
                      <a:r>
                        <a:rPr b="1" lang="en-US" sz="1800" spc="-1" strike="noStrike" baseline="30000">
                          <a:solidFill>
                            <a:srgbClr val="000066"/>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Ba1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ái phiếu có độ rủi ro cao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4,95 – 5,25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B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Ba2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4,75 – 4,95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B</a:t>
                      </a:r>
                      <a:r>
                        <a:rPr b="1" lang="en-US" sz="1800" spc="-1" strike="noStrike" baseline="30000">
                          <a:solidFill>
                            <a:srgbClr val="000066"/>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Ba3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4,50 – 4,75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a:t>
                      </a:r>
                      <a:r>
                        <a:rPr b="1" lang="en-US" sz="1800" spc="-1" strike="noStrike" baseline="30000">
                          <a:solidFill>
                            <a:srgbClr val="000066"/>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B1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ái phiếu không nên đầu tư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4,15 – 4,50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B2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row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anh nghiệp nằm trong vùng nguy hiểm, nguy cơ phá sản cao.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3,75 – 4,15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a:t>
                      </a:r>
                      <a:r>
                        <a:rPr b="1" lang="en-US" sz="1800" spc="-1" strike="noStrike" baseline="30000">
                          <a:solidFill>
                            <a:srgbClr val="000066"/>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B3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3,20 – 3,75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CCC</a:t>
                      </a:r>
                      <a:r>
                        <a:rPr b="1" lang="en-US" sz="1800" spc="-1" strike="noStrike" baseline="30000">
                          <a:solidFill>
                            <a:srgbClr val="000066"/>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Caa1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2,50 – 3,20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CCC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Caa2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0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1,75 – 2,50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CCC</a:t>
                      </a:r>
                      <a:r>
                        <a:rPr b="1" lang="en-US" sz="1800" spc="-1" strike="noStrike" baseline="30000">
                          <a:solidFill>
                            <a:srgbClr val="000066"/>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Caa3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0 – 1,75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D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600"/>
            <a:ext cx="8229600" cy="1706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Xếp hạng tín nhiệm các tổ chức phát hành chứng khoán</a:t>
            </a:r>
            <a:br>
              <a:rPr sz="4500"/>
            </a:br>
            <a:r>
              <a:rPr b="0" lang="en-US" sz="2000" spc="-1" strike="noStrike">
                <a:solidFill>
                  <a:srgbClr val="04617b"/>
                </a:solidFill>
                <a:latin typeface="Arial"/>
                <a:ea typeface="Arial"/>
              </a:rPr>
              <a:t>Bảng xếp hạng tín nhiệm của Standard &amp; Poor’s</a:t>
            </a:r>
            <a:endParaRPr b="0" lang="en-US" sz="2000" spc="-1" strike="noStrike">
              <a:solidFill>
                <a:srgbClr val="04617b"/>
              </a:solidFill>
              <a:latin typeface="Calibri"/>
            </a:endParaRPr>
          </a:p>
        </p:txBody>
      </p:sp>
      <p:graphicFrame>
        <p:nvGraphicFramePr>
          <p:cNvPr id="185" name=""/>
          <p:cNvGraphicFramePr/>
          <p:nvPr/>
        </p:nvGraphicFramePr>
        <p:xfrm>
          <a:off x="380880" y="2057400"/>
          <a:ext cx="8229600" cy="4389480"/>
        </p:xfrm>
        <a:graphic>
          <a:graphicData uri="http://schemas.openxmlformats.org/drawingml/2006/table">
            <a:tbl>
              <a:tblPr/>
              <a:tblGrid>
                <a:gridCol w="914400"/>
                <a:gridCol w="7315200"/>
              </a:tblGrid>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Xếp hạng tín dụng dài hạ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ức đầu t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A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ó chất lượng tốt nhất, đáng tin cậy và an toà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ó chất lượng nhưng rủi ro cao hơn AA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ình hình tài chính có thể bị ảnh hưỡng bởi điều kiện kinh t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B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Khách hàng có độ tín nhiệm ở mức kh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ức không đầu t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hụ thuộc nhiều vào tình trạng của nền kinh t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ình hình tài chính có nhiều biến độ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C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ó rủi ro trong ngắn hạ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ó rủi ro cao trong ngắn hạn, trái phiếu mang tính đầu cơ ca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ó rủi ro rất cao, nhưng vẫn thanh toán các nghĩa vụ tài chín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Xếp hạng tín nhiệm các tổ chức phát hành chứng khoán</a:t>
            </a:r>
            <a:endParaRPr b="0" lang="en-US" sz="4500" spc="-1" strike="noStrike">
              <a:solidFill>
                <a:srgbClr val="04617b"/>
              </a:solidFill>
              <a:latin typeface="Calibri"/>
            </a:endParaRPr>
          </a:p>
        </p:txBody>
      </p:sp>
      <p:graphicFrame>
        <p:nvGraphicFramePr>
          <p:cNvPr id="187" name=""/>
          <p:cNvGraphicFramePr/>
          <p:nvPr/>
        </p:nvGraphicFramePr>
        <p:xfrm>
          <a:off x="457200" y="1600200"/>
          <a:ext cx="8229600" cy="4449600"/>
        </p:xfrm>
        <a:graphic>
          <a:graphicData uri="http://schemas.openxmlformats.org/drawingml/2006/table">
            <a:tbl>
              <a:tblPr/>
              <a:tblGrid>
                <a:gridCol w="762120"/>
                <a:gridCol w="74674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Quá hạn trả lã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ị đặt dưới sự giám sát của cơ quan quản l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Không thực hiện được một số nghĩa vụ trả nợ</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Không thực hêện được tất cả các nghĩa vụ trả nợ</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Không đánh gi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Xếp hạng tín dụng ngắn hạ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ó khả năng thực hiện các nghĩa vụ tài chính ca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Điều kiện tài chính tốt, bị ảnh hưỡng bởi các điều kiện kinh tế bất lợ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Điều kiện kinh tế ảnh hưỡng đến khả năng thực hiện nghĩa vụ tài chín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ó yếu tố đầu cơ,có khả năng thực hiện nghĩa vụ tài chính, xuất hiện rủi r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ất khả năng thanh toá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ất khả năng thanh toán, nguy cơ phá sản ca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Xếp hạng tín nhiệm các tổ chức phát hành chứng khoán</a:t>
            </a:r>
            <a:endParaRPr b="0" lang="en-US" sz="4500" spc="-1" strike="noStrike">
              <a:solidFill>
                <a:srgbClr val="04617b"/>
              </a:solidFill>
              <a:latin typeface="Calibri"/>
            </a:endParaRPr>
          </a:p>
        </p:txBody>
      </p:sp>
      <p:sp>
        <p:nvSpPr>
          <p:cNvPr id="189" name=""/>
          <p:cNvSpPr txBox="1"/>
          <p:nvPr/>
        </p:nvSpPr>
        <p:spPr>
          <a:xfrm>
            <a:off x="457200" y="2514600"/>
            <a:ext cx="8229600" cy="533520"/>
          </a:xfrm>
          <a:prstGeom prst="rect">
            <a:avLst/>
          </a:prstGeom>
          <a:noFill/>
          <a:ln w="0">
            <a:noFill/>
          </a:ln>
        </p:spPr>
        <p:txBody>
          <a:bodyPr anchor="t">
            <a:normAutofit fontScale="80000"/>
          </a:bodyPr>
          <a:p>
            <a:pPr marL="218160" indent="-218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Điển hình ở Việt Nam. </a:t>
            </a:r>
            <a:endParaRPr b="0" lang="en-US" sz="3600" spc="-1" strike="noStrike">
              <a:solidFill>
                <a:srgbClr val="000000"/>
              </a:solidFill>
              <a:latin typeface="Constantia"/>
            </a:endParaRPr>
          </a:p>
        </p:txBody>
      </p:sp>
      <p:sp>
        <p:nvSpPr>
          <p:cNvPr id="190" name="Text Box 4"/>
          <p:cNvSpPr/>
          <p:nvPr/>
        </p:nvSpPr>
        <p:spPr>
          <a:xfrm>
            <a:off x="380880" y="3809880"/>
            <a:ext cx="85345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ước đây, BIDV là tổ chức đầu tiên được Moody’s xếp hạng tín nhiệm với mức tương đương hệ số tín nhiệm của quốc gia vào tháng 4/2006.</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ội dung chính</a:t>
            </a:r>
            <a:endParaRPr b="0" lang="en-US" sz="5000" spc="-1" strike="noStrike">
              <a:solidFill>
                <a:srgbClr val="04617b"/>
              </a:solidFill>
              <a:latin typeface="Calibri"/>
            </a:endParaRPr>
          </a:p>
        </p:txBody>
      </p:sp>
      <p:sp>
        <p:nvSpPr>
          <p:cNvPr id="15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Định nghĩa hệ số tín nhiệm</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ổ chức xếp hạng tín nhiệm (CRA)</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Mục đích của xếp hạng tín nhiệm</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Xếp hạng tín nhiệm các tổ chức phát hành chứng khoán ở Việt Nam</a:t>
            </a:r>
            <a:endParaRPr b="0" lang="en-US" sz="3200" spc="-1" strike="noStrike">
              <a:solidFill>
                <a:srgbClr val="000000"/>
              </a:solidFill>
              <a:latin typeface="Constantia"/>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Ngân hàng đầu tư và phát triển Việt Nam ( BIDV)</a:t>
            </a:r>
            <a:endParaRPr b="0" lang="en-US" sz="4500" spc="-1" strike="noStrike">
              <a:solidFill>
                <a:srgbClr val="04617b"/>
              </a:solidFill>
              <a:latin typeface="Calibri"/>
            </a:endParaRPr>
          </a:p>
        </p:txBody>
      </p:sp>
      <p:sp>
        <p:nvSpPr>
          <p:cNvPr id="192"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Với chiến lược áp dụng các chuẩn mực quốc tế tối ưu vào hoạt động kinh doanh, BIDV đã chủ động ký hợp đồng và thuê Tổ chức xếp hạng Tín nhiệm Moody’s thực hiện đánh giá và xếp hạng cho ngân hàng.</a:t>
            </a:r>
            <a:endParaRPr b="0" lang="en-US" sz="3200" spc="-1" strike="noStrike">
              <a:solidFill>
                <a:srgbClr val="000000"/>
              </a:solidFill>
              <a:latin typeface="Constantia"/>
            </a:endParaRPr>
          </a:p>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Đến 10/2006 được đánh giá nâng hạng đối với xếp hạng tín nhiệm người phát hành ngoại tệ từ “Ba3” lên “Ba2”.</a:t>
            </a:r>
            <a:endParaRPr b="0" lang="en-US" sz="3200" spc="-1" strike="noStrike">
              <a:solidFill>
                <a:srgbClr val="000000"/>
              </a:solidFill>
              <a:latin typeface="Constanti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6080"/>
            <a:ext cx="8229600" cy="1798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gân hàng đầu tư và phát triển Việt Nam ( BIDV)</a:t>
            </a:r>
            <a:endParaRPr b="0" lang="en-US" sz="5000" spc="-1" strike="noStrike">
              <a:solidFill>
                <a:srgbClr val="04617b"/>
              </a:solidFill>
              <a:latin typeface="Calibri"/>
            </a:endParaRPr>
          </a:p>
        </p:txBody>
      </p:sp>
      <p:sp>
        <p:nvSpPr>
          <p:cNvPr id="194" name=""/>
          <p:cNvSpPr txBox="1"/>
          <p:nvPr/>
        </p:nvSpPr>
        <p:spPr>
          <a:xfrm>
            <a:off x="457200" y="1905120"/>
            <a:ext cx="8229600" cy="44956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Kết quả đánh giá và xếp hạng tín nhiệm của Moody’s như sau: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xếp hạng tín nhiệm tiền gửi tiền đồng: Ba1</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Xếp hạng tín nhiệm Nhà phát hành bằng tiền đồng: Ba1</a:t>
            </a:r>
            <a:endParaRPr b="0" lang="en-US" sz="3200" spc="-1" strike="noStrike">
              <a:solidFill>
                <a:srgbClr val="000000"/>
              </a:solidFill>
              <a:latin typeface="Constanti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Ngân hàng đầu tư và phát triển Việt Nam ( BIDV)</a:t>
            </a:r>
            <a:endParaRPr b="0" lang="en-US" sz="4500" spc="-1" strike="noStrike">
              <a:solidFill>
                <a:srgbClr val="04617b"/>
              </a:solidFill>
              <a:latin typeface="Calibri"/>
            </a:endParaRPr>
          </a:p>
        </p:txBody>
      </p:sp>
      <p:sp>
        <p:nvSpPr>
          <p:cNvPr id="196"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Xếp hạng tín nhiệm bằng tiền gửi ngoại tệ: B1</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Xếp hạng tín nhiệm nhà phát hành bằng ngoại tệ: Ba3</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Xếp hạng sức mạnh tài chính độc lập: E với triển vọng tích cực.</a:t>
            </a:r>
            <a:endParaRPr b="0" lang="en-US" sz="3200" spc="-1" strike="noStrike">
              <a:solidFill>
                <a:srgbClr val="000000"/>
              </a:solidFill>
              <a:latin typeface="Constanti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gân hàng đầu tư và phát triển Việt Nam ( BIDV)</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hỉ số xếp hạng tín nhiệm tiền gửi và xếp hạng tín nhiệm Nhà phát hành đều đạt mức trần xếp hạng chính phủ. Mức trần đánh giá trái phiếu của chính phủ như sau: tiền gửi bằng nội tệ là Ba1, tiền gửi bằng ngoại tệ là Ba2.</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533520"/>
            <a:ext cx="8229600" cy="1371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Ngân hàng đầu tư và phát triển Việt Nam ( BIDV)</a:t>
            </a:r>
            <a:endParaRPr b="0" lang="en-US" sz="4500" spc="-1" strike="noStrike">
              <a:solidFill>
                <a:srgbClr val="04617b"/>
              </a:solidFill>
              <a:latin typeface="Calibri"/>
            </a:endParaRPr>
          </a:p>
        </p:txBody>
      </p:sp>
      <p:sp>
        <p:nvSpPr>
          <p:cNvPr id="200" name=""/>
          <p:cNvSpPr txBox="1"/>
          <p:nvPr/>
        </p:nvSpPr>
        <p:spPr>
          <a:xfrm>
            <a:off x="457200" y="2285640"/>
            <a:ext cx="8229600" cy="3962520"/>
          </a:xfrm>
          <a:prstGeom prst="rect">
            <a:avLst/>
          </a:prstGeom>
          <a:noFill/>
          <a:ln w="0">
            <a:noFill/>
          </a:ln>
        </p:spPr>
        <p:txBody>
          <a:bodyPr anchor="t">
            <a:normAutofit fontScale="96000"/>
          </a:bodyPr>
          <a:p>
            <a:pPr marL="261720" indent="-26172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Kết quả xếp hạng năng lực tài chính độc lập là E đã phản ánh các vấn đề đáng kể về chất lượng tài sản của ngân hàng và khả năng thanh khoản cần cải thiện.</a:t>
            </a:r>
            <a:endParaRPr b="0" lang="en-US" sz="3200" spc="-1" strike="noStrike">
              <a:solidFill>
                <a:srgbClr val="000000"/>
              </a:solidFill>
              <a:latin typeface="Constantia"/>
            </a:endParaRPr>
          </a:p>
          <a:p>
            <a:pPr marL="261720" indent="-26172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Với triển vọng xếp hạng tích cực ghi nhận khả năng sinh lời của BIDV đang được tăng cường, đang tiếp tục tái cơ cấu và tái cấp vốn.</a:t>
            </a:r>
            <a:endParaRPr b="0" lang="en-US" sz="3200" spc="-1" strike="noStrike">
              <a:solidFill>
                <a:srgbClr val="000000"/>
              </a:solidFill>
              <a:latin typeface="Constantia"/>
            </a:endParaRPr>
          </a:p>
          <a:p>
            <a:pPr marL="261720" indent="-26172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Ngân hàng đầu tư và phát triển Việt Nam ( BIDV)</a:t>
            </a:r>
            <a:endParaRPr b="0" lang="en-US" sz="45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ỷ suất lợi nhuận trước dự phòng rủi ro trên tài sản điều chỉnh theo rủi ro của BIDV là 2.7%, cao hơn mức trung bình 1.9% của các ngân hàng cùng hạng E</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685800"/>
            <a:ext cx="8229600" cy="838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Ngân hàng đầu tư và phát triển Việt Nam ( BIDV)</a:t>
            </a:r>
            <a:endParaRPr b="0" lang="en-US" sz="4500" spc="-1" strike="noStrike">
              <a:solidFill>
                <a:srgbClr val="04617b"/>
              </a:solidFill>
              <a:latin typeface="Calibri"/>
            </a:endParaRPr>
          </a:p>
        </p:txBody>
      </p:sp>
      <p:sp>
        <p:nvSpPr>
          <p:cNvPr id="204" name=""/>
          <p:cNvSpPr txBox="1"/>
          <p:nvPr/>
        </p:nvSpPr>
        <p:spPr>
          <a:xfrm>
            <a:off x="380880" y="1447920"/>
            <a:ext cx="8229600" cy="4876560"/>
          </a:xfrm>
          <a:prstGeom prst="rect">
            <a:avLst/>
          </a:prstGeom>
          <a:noFill/>
          <a:ln w="0">
            <a:noFill/>
          </a:ln>
        </p:spPr>
        <p:txBody>
          <a:bodyPr anchor="t">
            <a:normAutofit fontScale="96000"/>
          </a:bodyPr>
          <a:p>
            <a:pPr marL="261720" indent="-26172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Việc bắt đầu đánh giá sản phẩm theo rủi ro, gia tăng tỷ lệ sinh lời trong lĩnh vực khách hàng doanh nghiệp và những yếu tố thuận từ quan hệ cung cầu trên thị trường nhằm hỗ  trợ ngân hàng gia tăng tỷ lệ sinh lời, dẫn đến việc khả năng trích đủ dự phòng cho các khoản nợ.</a:t>
            </a:r>
            <a:endParaRPr b="0" lang="en-US" sz="3200" spc="-1" strike="noStrike">
              <a:solidFill>
                <a:srgbClr val="000000"/>
              </a:solidFill>
              <a:latin typeface="Constantia"/>
            </a:endParaRPr>
          </a:p>
          <a:p>
            <a:pPr marL="261720" indent="-26172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hờ chương trình  tái cấp vốn của Chính phủ và nỗ lực cơ cấu lại nên đã giúp BIDV  cải thiện kết quả xếp hạng tín nhiệm</a:t>
            </a:r>
            <a:endParaRPr b="0" lang="en-US" sz="3200" spc="-1" strike="noStrike">
              <a:solidFill>
                <a:srgbClr val="000000"/>
              </a:solidFill>
              <a:latin typeface="Constantia"/>
            </a:endParaRPr>
          </a:p>
          <a:p>
            <a:pPr marL="261720" indent="-26172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533520"/>
            <a:ext cx="8229600" cy="761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Ngân hàng đầu tư và phát triển Việt Nam ( BIDV)</a:t>
            </a:r>
            <a:endParaRPr b="0" lang="en-US" sz="4500" spc="-1" strike="noStrike">
              <a:solidFill>
                <a:srgbClr val="04617b"/>
              </a:solidFill>
              <a:latin typeface="Calibri"/>
            </a:endParaRPr>
          </a:p>
        </p:txBody>
      </p:sp>
      <p:sp>
        <p:nvSpPr>
          <p:cNvPr id="206" name=""/>
          <p:cNvSpPr txBox="1"/>
          <p:nvPr/>
        </p:nvSpPr>
        <p:spPr>
          <a:xfrm>
            <a:off x="457200" y="1523520"/>
            <a:ext cx="8229600" cy="495324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ỷ lệ nợ xấu của BIDV ở mức 6.44%, giảm 2.6% so với đầu năm, trong đó số tuyệt đối giảm gần 2.500 tỷ đồng</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ổng tài sản của BIDV đạt 184.780 tỷ đồng, khả năng huy động vốn là 142.844 tỷ đồng.</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IDV hạch toán tăng vốn điều lệ lên 7.477 tỷ đồng và vốn tự có lên 10.193 tỷ đồng</a:t>
            </a:r>
            <a:endParaRPr b="0" lang="en-US" sz="3200" spc="-1" strike="noStrike">
              <a:solidFill>
                <a:srgbClr val="000000"/>
              </a:solidFill>
              <a:latin typeface="Constanti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533520"/>
            <a:ext cx="8229600" cy="838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gân hàng cổ phần kỹ thương Techcombank</a:t>
            </a:r>
            <a:endParaRPr b="0" lang="en-US" sz="5000" spc="-1" strike="noStrike">
              <a:solidFill>
                <a:srgbClr val="04617b"/>
              </a:solidFill>
              <a:latin typeface="Calibri"/>
            </a:endParaRPr>
          </a:p>
        </p:txBody>
      </p:sp>
      <p:sp>
        <p:nvSpPr>
          <p:cNvPr id="208" name=""/>
          <p:cNvSpPr txBox="1"/>
          <p:nvPr/>
        </p:nvSpPr>
        <p:spPr>
          <a:xfrm>
            <a:off x="457200" y="1447560"/>
            <a:ext cx="8229600" cy="438948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gày 16/8 /2006 vừa qua, Moody's, tổ chức xếp hạng tín nhiệm hàng đầu thế giới, đã công bố kết quả xếp hạng tín nhiệm của Techcombank với kết quả sau:</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ín nhiệm bằng Tiền gửi ngoại tệ là B1</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ín nhiệm của Tiền gửi tiền Đồng là Ba1</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ín nhiệm Nhà phát hành bằng ngoại tệ là Ba2</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gân hàng cổ phần kỹ thương Techcombank</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ín nhiệm Nhà phát hành bằng tiền Đồng là Ba1</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ức mạnh Tài chính độc lập là D- </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Định nghĩa hệ số tín nhiệm</a:t>
            </a:r>
            <a:endParaRPr b="0" lang="en-US" sz="5000" spc="-1" strike="noStrike">
              <a:solidFill>
                <a:srgbClr val="04617b"/>
              </a:solidFill>
              <a:latin typeface="Calibri"/>
            </a:endParaRPr>
          </a:p>
        </p:txBody>
      </p:sp>
      <p:sp>
        <p:nvSpPr>
          <p:cNvPr id="15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Hệ số tín nhiệm là </a:t>
            </a:r>
            <a:r>
              <a:rPr b="0" lang="en-US" sz="3200" spc="-1" strike="noStrike">
                <a:solidFill>
                  <a:srgbClr val="000000"/>
                </a:solidFill>
                <a:latin typeface="Constantia"/>
              </a:rPr>
              <a:t>là hệ số đánh giá khả năng tài chính và khả năng thanh toán của một tổ chức đối với các khoản tiền nghĩa vụ - gốc và lãi -  của các các công cụ nợ mà nó phát hành. </a:t>
            </a:r>
            <a:endParaRPr b="0" lang="en-US" sz="3200" spc="-1" strike="noStrike">
              <a:solidFill>
                <a:srgbClr val="000000"/>
              </a:solidFill>
              <a:latin typeface="Constanti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gân hàng cổ phần kỹ thương Techcombank</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hư vậy, xếp hạng đối với mức tín nhiệm tiền gửi tiền Đồng cũng như tín nhiệm Nhà phát hành bằng tiền Đồng của Techcombank là Ba1, đều đạt trần mức tín nhiệm của chính phủ Việt Nam. Mức tín nhiệm đối với nhà phát hành ngoại tệ là Ba2, dưới mức trần một bậc. </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ụ thể, Techcombank được đánh giá cao về sức mạnh tài chính nội tại, đặc biệt là khả năng duy trì thanh khoản tốt trong bối cảnh thị trường gặp khó khăn về khả năng thanh toán. Điều này thể hiện ở tỷ lệ cho vay/nguồn vốn ổn định, được duy trì ở mức an toàn nhất trong hệ thống ngân hàng Việt Nam (82%)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gân hàng cổ phần kỹ thương Techcombank</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fontScale="87000"/>
          </a:bodyPr>
          <a:p>
            <a:pPr marL="237240" indent="-2372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ỷ lệ trên ở đồng USD là 77%, cho thấy Techcombank đã duy trì được thanh khoản khá cân bằng. </a:t>
            </a:r>
            <a:endParaRPr b="0" lang="en-US" sz="2600" spc="-1" strike="noStrike">
              <a:solidFill>
                <a:srgbClr val="000000"/>
              </a:solidFill>
              <a:latin typeface="Constantia"/>
            </a:endParaRPr>
          </a:p>
          <a:p>
            <a:pPr marL="237240" indent="-2372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ody’s đặc biệt đánh giá cao khả năng kiềm chế nợ xấu của ngân hàng </a:t>
            </a:r>
            <a:endParaRPr b="0" lang="en-US" sz="2600" spc="-1" strike="noStrike">
              <a:solidFill>
                <a:srgbClr val="000000"/>
              </a:solidFill>
              <a:latin typeface="Constantia"/>
            </a:endParaRPr>
          </a:p>
          <a:p>
            <a:pPr marL="237240" indent="-2372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ody’s cho rằng “Chỉ tiêu Sức mạnh tài chính độc lập (BFSD) của Techcombank thể hiện hiệu quả tài chính và tính thanh khoản cao của ngân hàng cũng như lợi ích của việc chuyển giao kiến thức từ cổ đông là HSBC”. Như vậy xếp hạng tín nhiệm của Techcombank đạt xấp xỉ các ngân hàng hàng đầu Việt Nam đã được đánh giá bởi các tổ chức xếp hạng tín dụng uy tín như Moody’s và Fitch.</a:t>
            </a:r>
            <a:endParaRPr b="0" lang="en-US" sz="2600" spc="-1" strike="noStrike">
              <a:solidFill>
                <a:srgbClr val="000000"/>
              </a:solidFill>
              <a:latin typeface="Constantia"/>
            </a:endParaRPr>
          </a:p>
          <a:p>
            <a:pPr marL="237240" indent="-2372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gân hàng cổ phần kỹ thương Techcombank</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hư vậy xếp hạng tín nhiệm của Techcombank đạt xấp xỉ các ngân hàng hàng đầu Việt Nam đã được đánh giá bởi các tổ chức xếp hạng tín dụng uy tín như Moody’s và Fitch.</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ề tổng thể sức mạnh tài chính, Moody’s đánh giá Techcombank ở mức dẫn đầu trong hệ thống ngân hàng Việt Nam và ở vị trí “có thể trợ giúp” các ngân hàng nhỏ khác bất cứ lúc nào cầ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gân hàng ngoại thương Vietcombank</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ổ chức xếp  hạng tín nhiệm hàng đầu thế giới Standard &amp; Poor’s đã công bố xếp hạng Vietcombank ở mức BB/B (triển vọng ổn định) và năng lực nội tại ở mức D. Với mức xếp hạng tín nhiệm BB/B, mức xếp hạng tín nhiệm của Vietcombank tương đương với mức xếp hạng tín nhiệm quốc gia; đây cũng là mức xếp hạng cao nhất của Standard &amp; Poor’s đối với một định chế tài chính Việt Nam.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ổ chức xếp hạng tín nhiệm (CRA)</a:t>
            </a:r>
            <a:endParaRPr b="0" lang="en-US" sz="4500" spc="-1" strike="noStrike">
              <a:solidFill>
                <a:srgbClr val="04617b"/>
              </a:solidFill>
              <a:latin typeface="Calibri"/>
            </a:endParaRPr>
          </a:p>
        </p:txBody>
      </p:sp>
      <p:sp>
        <p:nvSpPr>
          <p:cNvPr id="159"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ổ chức xếp hạng tín nhiệm là một tổ chức mà có nhiệm vụ xếp hạng </a:t>
            </a:r>
            <a:r>
              <a:rPr b="0" lang="vi-VN" sz="3200" spc="-1" strike="noStrike">
                <a:solidFill>
                  <a:srgbClr val="000000"/>
                </a:solidFill>
                <a:latin typeface="Arial"/>
                <a:ea typeface="Arial"/>
              </a:rPr>
              <a:t>tín nhiệm đối với những tổ chức phát hành dựa trên các tiêu chí như nghĩa vụ nợ và các công cụ nợ</a:t>
            </a:r>
            <a:r>
              <a:rPr b="0" lang="en-US" sz="3200" spc="-1" strike="noStrike">
                <a:solidFill>
                  <a:srgbClr val="000000"/>
                </a:solidFill>
                <a:latin typeface="Arial"/>
                <a:ea typeface="Arial"/>
              </a:rPr>
              <a:t>.</a:t>
            </a:r>
            <a:endParaRPr b="0" lang="en-US" sz="3200" spc="-1" strike="noStrike">
              <a:solidFill>
                <a:srgbClr val="000000"/>
              </a:solidFill>
              <a:latin typeface="Constantia"/>
            </a:endParaRPr>
          </a:p>
          <a:p>
            <a:pPr marL="267120" indent="-26712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Đối tượng đánh giá của CRA:</a:t>
            </a:r>
            <a:endParaRPr b="0" lang="en-US" sz="3200" spc="-1" strike="noStrike">
              <a:solidFill>
                <a:srgbClr val="000000"/>
              </a:solidFill>
              <a:latin typeface="Constantia"/>
            </a:endParaRPr>
          </a:p>
          <a:p>
            <a:pPr lvl="3" marL="1568160" indent="-223920">
              <a:lnSpc>
                <a:spcPct val="100000"/>
              </a:lnSpc>
              <a:spcBef>
                <a:spcPts val="649"/>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ác tổ chức tài chính</a:t>
            </a:r>
            <a:endParaRPr b="0" lang="en-US" sz="2600" spc="-1" strike="noStrike">
              <a:solidFill>
                <a:srgbClr val="000000"/>
              </a:solidFill>
              <a:latin typeface="Constantia"/>
            </a:endParaRPr>
          </a:p>
          <a:p>
            <a:pPr lvl="3" marL="1568160" indent="-223920">
              <a:lnSpc>
                <a:spcPct val="100000"/>
              </a:lnSpc>
              <a:spcBef>
                <a:spcPts val="649"/>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ác ngân hàng, bảo hiểm</a:t>
            </a:r>
            <a:endParaRPr b="0" lang="en-US" sz="2600" spc="-1" strike="noStrike">
              <a:solidFill>
                <a:srgbClr val="000000"/>
              </a:solidFill>
              <a:latin typeface="Constantia"/>
            </a:endParaRPr>
          </a:p>
          <a:p>
            <a:pPr lvl="3" marL="1568160" indent="-223920">
              <a:lnSpc>
                <a:spcPct val="100000"/>
              </a:lnSpc>
              <a:spcBef>
                <a:spcPts val="649"/>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ác định chế tài chính phi ngân hàng</a:t>
            </a:r>
            <a:endParaRPr b="0" lang="en-US" sz="2600" spc="-1" strike="noStrike">
              <a:solidFill>
                <a:srgbClr val="000000"/>
              </a:solidFill>
              <a:latin typeface="Constantia"/>
            </a:endParaRPr>
          </a:p>
          <a:p>
            <a:pPr marL="267120" indent="-26712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Đối tựơng đánh giá của CRA</a:t>
            </a:r>
            <a:endParaRPr b="0" lang="en-US" sz="5000" spc="-1" strike="noStrike">
              <a:solidFill>
                <a:srgbClr val="04617b"/>
              </a:solidFill>
              <a:latin typeface="Calibri"/>
            </a:endParaRPr>
          </a:p>
        </p:txBody>
      </p:sp>
      <p:sp>
        <p:nvSpPr>
          <p:cNvPr id="16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ác doanh nghiệp lớn của nhà nước, doanh nghiệp sản xuất kinh doanh lớn</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anh nghiệp phát hành chứng khóan Tổng công ty nhà nước</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hính phủ, các địa phương, các bộ,…</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228240"/>
            <a:ext cx="6858000" cy="762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4617b"/>
                </a:solidFill>
                <a:latin typeface="Calibri"/>
              </a:rPr>
              <a:t>Mục đích của hệ số tín nhiệm</a:t>
            </a:r>
            <a:endParaRPr b="0" lang="en-US" sz="4100" spc="-1" strike="noStrike">
              <a:solidFill>
                <a:srgbClr val="04617b"/>
              </a:solidFill>
              <a:latin typeface="Calibri"/>
            </a:endParaRPr>
          </a:p>
        </p:txBody>
      </p:sp>
      <p:sp>
        <p:nvSpPr>
          <p:cNvPr id="163" name=""/>
          <p:cNvSpPr txBox="1"/>
          <p:nvPr/>
        </p:nvSpPr>
        <p:spPr>
          <a:xfrm>
            <a:off x="228600" y="1142640"/>
            <a:ext cx="8763120" cy="571500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iết được khả năng thanh toán của món nợ hay nói cách khác là khả năng thu hồi vốn của các nhà đầu tư.</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ếu hệ số tín nhiệm càng cao sẽ tạo càng nhiều sự tin tưởng của các nhà đầu tư và thu hút được nhiều nhà đầu tư mua trái phiếu của mình.</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gược lại không có hệ số tín nhiệm thì khả năng thu hút vốn các nhà đầu tư mua trái phiếu là rất thấp. </a:t>
            </a:r>
            <a:endParaRPr b="0" lang="en-US" sz="3200" spc="-1" strike="noStrike">
              <a:solidFill>
                <a:srgbClr val="000000"/>
              </a:solidFill>
              <a:latin typeface="Constantia"/>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Đánh giá hệ số tín nhiệm</a:t>
            </a:r>
            <a:endParaRPr b="0" lang="en-US" sz="5000" spc="-1" strike="noStrike">
              <a:solidFill>
                <a:srgbClr val="04617b"/>
              </a:solidFill>
              <a:latin typeface="Calibri"/>
            </a:endParaRPr>
          </a:p>
        </p:txBody>
      </p:sp>
      <p:sp>
        <p:nvSpPr>
          <p:cNvPr id="16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o từng quốc gia,môi trường kinh tế.</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ự ổn định của môi trường chính trị.</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Môi trường xã hội,ngành nghề kinh doanh..</a:t>
            </a:r>
            <a:endParaRPr b="0" lang="en-US" sz="3200" spc="-1" strike="noStrike">
              <a:solidFill>
                <a:srgbClr val="000000"/>
              </a:solidFill>
              <a:latin typeface="Constanti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Thang điểm đánh giá</a:t>
            </a:r>
            <a:endParaRPr b="0" lang="en-US" sz="3200" spc="-1" strike="noStrike">
              <a:solidFill>
                <a:srgbClr val="04617b"/>
              </a:solidFill>
              <a:latin typeface="Calibri"/>
            </a:endParaRPr>
          </a:p>
        </p:txBody>
      </p:sp>
      <p:graphicFrame>
        <p:nvGraphicFramePr>
          <p:cNvPr id="167" name=""/>
          <p:cNvGraphicFramePr/>
          <p:nvPr/>
        </p:nvGraphicFramePr>
        <p:xfrm>
          <a:off x="457200" y="533520"/>
          <a:ext cx="8458200" cy="6311880"/>
        </p:xfrm>
        <a:graphic>
          <a:graphicData uri="http://schemas.openxmlformats.org/drawingml/2006/table">
            <a:tbl>
              <a:tblPr/>
              <a:tblGrid>
                <a:gridCol w="1409760"/>
                <a:gridCol w="1485720"/>
                <a:gridCol w="3800520"/>
                <a:gridCol w="1762200"/>
              </a:tblGrid>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ỉ số tín nhiệm theo S&amp;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ỉ số tín nhiệm theo Moody’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Diễn giả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1" lang="en-US" sz="1800" spc="-1" strike="noStrike">
                          <a:solidFill>
                            <a:srgbClr val="000066"/>
                          </a:solidFill>
                          <a:latin typeface="Times New Roman"/>
                          <a:ea typeface="Times New Roman"/>
                        </a:rPr>
                        <a:t>Phân loạ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A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a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ất luợng cao nhất, ổn định, độ rủi ro thấp nhấ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ái phiếu có thể  </a:t>
                      </a:r>
                      <a:r>
                        <a:rPr b="0" lang="en-US" sz="2400" spc="-1" strike="noStrike" u="sng">
                          <a:solidFill>
                            <a:srgbClr val="000000"/>
                          </a:solidFill>
                          <a:uFillTx/>
                          <a:latin typeface="Constantia"/>
                        </a:rPr>
                        <a:t>đầu tư</a:t>
                      </a:r>
                      <a:r>
                        <a:rPr b="0" lang="en-US" sz="2400" spc="-1" strike="noStrike">
                          <a:solidFill>
                            <a:srgbClr val="000000"/>
                          </a:solidFill>
                          <a:latin typeface="Constantia"/>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ất lượng cao, rủi ro thấp, Độ rủi ro chỉ cao hơn hạng AAA một bậc.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ất lượng khá, tuy vậy có thể bị ảnh huỡng bởi tình hình kinh tế.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BB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a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ất lượng trung bình, an toàn trong thời gian hiện tại, tuy vậy có ẩn chứa một số yếu tố rủi ro.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B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ất lượng trung bình thấp, có thế gặp khó khăn trong việc trả nợ, bị ảnh hưởng đối với sự thay đổi của tình hình kinh tế.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ái phiếu có độ rủi ro cao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ất lượng thấp, rủi ro cao, có nguy cơ không thanh toán đúng hạ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ái phiếu không nên đầu tư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CC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ủi ro cao, chỉ có khả năng trả nợ nếu tình hình kinh tế khả qua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C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ủi ro rất cao, rất gần phá sả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ủi ro rất cao, khó có khả năng thực hiện thanh toán các nghĩa vụ nợ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ếp hạng thấp nhất, đã phá sản hay hầu như sẽ phá sả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R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R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hông đánh giá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rPr>
              <a:t>Ư</a:t>
            </a:r>
            <a:r>
              <a:rPr b="0" lang="en-US" sz="5000" spc="-1" strike="noStrike">
                <a:solidFill>
                  <a:srgbClr val="04617b"/>
                </a:solidFill>
                <a:latin typeface="Calibri"/>
              </a:rPr>
              <a:t>ớc tính hệ số tín nhiệm</a:t>
            </a: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hỉ số Z bao gồm  5 chỉ số X1, X2, X3, X4, X5:   </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X1  =      Tỷ số </a:t>
            </a:r>
            <a:r>
              <a:rPr b="0" lang="en-US" sz="2200" spc="-1" strike="noStrike" u="sng">
                <a:solidFill>
                  <a:srgbClr val="e2d700"/>
                </a:solidFill>
                <a:uFillTx/>
                <a:latin typeface="Constantia"/>
                <a:hlinkClick r:id="rId2"/>
              </a:rPr>
              <a:t>Vốn</a:t>
            </a:r>
            <a:r>
              <a:rPr b="0" lang="en-US" sz="2200" spc="-1" strike="noStrike" u="sng">
                <a:solidFill>
                  <a:srgbClr val="e2d700"/>
                </a:solidFill>
                <a:uFillTx/>
                <a:latin typeface="Constantia"/>
                <a:hlinkClick r:id="rId3"/>
              </a:rPr>
              <a:t> </a:t>
            </a:r>
            <a:r>
              <a:rPr b="0" lang="en-US" sz="2200" spc="-1" strike="noStrike" u="sng">
                <a:solidFill>
                  <a:srgbClr val="e2d700"/>
                </a:solidFill>
                <a:uFillTx/>
                <a:latin typeface="Constantia"/>
                <a:hlinkClick r:id="rId4"/>
              </a:rPr>
              <a:t>Lưu</a:t>
            </a:r>
            <a:r>
              <a:rPr b="0" lang="en-US" sz="2200" spc="-1" strike="noStrike" u="sng">
                <a:solidFill>
                  <a:srgbClr val="e2d700"/>
                </a:solidFill>
                <a:uFillTx/>
                <a:latin typeface="Constantia"/>
                <a:hlinkClick r:id="rId5"/>
              </a:rPr>
              <a:t> </a:t>
            </a:r>
            <a:r>
              <a:rPr b="0" lang="en-US" sz="2200" spc="-1" strike="noStrike" u="sng">
                <a:solidFill>
                  <a:srgbClr val="e2d700"/>
                </a:solidFill>
                <a:uFillTx/>
                <a:latin typeface="Constantia"/>
                <a:hlinkClick r:id="rId6"/>
              </a:rPr>
              <a:t>Động</a:t>
            </a:r>
            <a:r>
              <a:rPr b="0" lang="en-US" sz="2200" spc="-1" strike="noStrike">
                <a:solidFill>
                  <a:srgbClr val="000000"/>
                </a:solidFill>
                <a:latin typeface="Constantia"/>
              </a:rPr>
              <a:t> trên Tổng Tài Sản (Working Capitals/Total Assets). </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X2 =       Tỷ số Lợi Nhuận Giữ Lại trên Tổng Tài Sản (Retain Earnings/Total Assets) </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X3 =       Tỷ Số Lợi Nhuận Trước Lãi Vay và Thuế trên Tổng Tài sản (EBIT/Total Assets) </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X4 =       Giá Trị Thị Trường của Vốn Chủ Sỡ Hữu trên Giá trị sổ sách của Tổng Nợ (Market Value of Total Equity / Book values of total Liabilities) </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X5=        Tỷ số Doanh Số trên Tổng Tài Sản (Sales/Total Assets)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23:22:34Z</dcterms:created>
  <dc:creator>pnc</dc:creator>
  <dc:description/>
  <dc:language>en-US</dc:language>
  <cp:lastModifiedBy>User</cp:lastModifiedBy>
  <dcterms:modified xsi:type="dcterms:W3CDTF">2009-06-22T05:47:38Z</dcterms:modified>
  <cp:revision>69</cp:revision>
  <dc:subject/>
  <dc:title>ĐỀ TÀI:</dc:title>
</cp:coreProperties>
</file>