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8FB2-4027-4EE9-AABB-F3319E13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0CB-57B2-4C8E-8433-77FD9AC1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D69C-09F1-4677-88C9-6FCB5E2BC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8B3A-2830-4625-A2E3-B0C17EC8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DEC9-D074-4ADD-B19B-85DCBEEE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3E8C-0427-4B96-983F-7FB47F78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491-A276-4801-AF3E-586BAF7B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FD1-83F4-4060-9137-F658A891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FD7-9F8C-444C-AAD7-11BCF6A3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C52-6584-449E-9BCD-695A4B0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D89-3B70-4333-AB0B-898DC4F3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DC4F-5853-4621-87EB-E1CE4FF6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9385-8809-4DAD-B834-E1A0A9B1467D}" type="slidenum">
              <a:rPr b="0" lang="ar-EG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f3c7"/>
            </a:gs>
            <a:gs pos="100000">
              <a:srgbClr val="321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295200" y="44280"/>
            <a:ext cx="9361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هل أطرق بابك بعد ضياع الكل 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و يـصـلـح أن أقترب إلـيــك بـذلـى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-252360" y="71280"/>
            <a:ext cx="9361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هل أطرق بابك بعد ضياع الكل 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و يـصـلـح أن أقترب إلـيــك بـذلـى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44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360" y="30240"/>
            <a:ext cx="914400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القـلـب بأحشـائى يناديـك أجـبر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شتاق لحضن الآب وعطفه يقبل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7128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القـلـب بأحشـائى يناديـك أجـبر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شتاق لحضن الآب وعطفه يقبل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419640" y="3600360"/>
            <a:ext cx="2503440" cy="33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1251000"/>
            <a:ext cx="9144000" cy="9576000"/>
          </a:xfrm>
          <a:prstGeom prst="rect">
            <a:avLst/>
          </a:prstGeom>
          <a:blipFill rotWithShape="0">
            <a:blip r:embed="rId1">
              <a:alphaModFix amt="3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360" y="217440"/>
            <a:ext cx="9144000" cy="573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جملنى فقبحى قد ذهب حتى الأحشاء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سـواد اللـيـل تسـرب فـىٌ إنتشر الـداء</a:t>
            </a: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260280"/>
            <a:ext cx="9144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جملنى فقبحى قد ذهب حتى الأحشاء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سـواد اللـيـل تسـرب فـىٌ إنتشر الـداء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360" y="144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شتاق لخالق من عدم يدعو الأشياء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فـيـغـير قـلـبــى ويلبسـنى حللاً بـيـضــاء</a:t>
            </a: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4428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شتاق لخالق من عدم يدعو الأشياء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فـيـغـير قـلـبــى ويلبسـنى حللاً بـيـضــاء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87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771640" y="1052640"/>
            <a:ext cx="334800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حللاً بـيـضــاء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</p:spTree>
  </p:cSld>
  <p:transition>
    <p:fad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3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16" dur="3000" fill="hold"/>
                                        <p:tgtEl>
                                          <p:spTgt spid="88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a971"/>
            </a:gs>
            <a:gs pos="100000">
              <a:srgbClr val="00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-12600" y="1440"/>
            <a:ext cx="91216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ضــيــعــت أنـا فرحـتـى مـنـى بجـهــلــ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قد كنت حبيبى وخلى أنت بل أهل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2320" y="44280"/>
            <a:ext cx="91216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ضــيــعــت أنـا فرحـتـى مـنـى بجـهــلــ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قد كنت حبيبى وخلى أنت بل أهل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48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7baf7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-22320" y="58680"/>
            <a:ext cx="9144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تركتك لكنى أعود فترحم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 لا بيدىُ إلأ الوعد ليستر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15920"/>
            <a:ext cx="9144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تركتك لكنى أعود فترحم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 لا بيدىُ إلأ الوعد ليستر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52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5a1"/>
            </a:gs>
            <a:gs pos="100000">
              <a:srgbClr val="66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-36360" y="30240"/>
            <a:ext cx="9144000" cy="35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القـلـب بأحشـائى يناديـك أجـبر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شتاق لحضن الآب وعطفه يقبل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7128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القـلـب بأحشـائى يناديـك أجـبر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شتاق لحضن الآب وعطفه يقبل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3600360"/>
            <a:ext cx="2503440" cy="33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1251000"/>
            <a:ext cx="9144000" cy="9576000"/>
          </a:xfrm>
          <a:prstGeom prst="rect">
            <a:avLst/>
          </a:prstGeom>
          <a:blipFill rotWithShape="0">
            <a:blip r:embed="rId1">
              <a:alphaModFix amt="3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360" y="217440"/>
            <a:ext cx="9144000" cy="573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جملنى فقبحى قد ذهب حتى الأحشاء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سـواد اللـيـل تسـرب فـىٌ إنتشر الـداء</a:t>
            </a: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0" y="260280"/>
            <a:ext cx="914400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جملنى فقبحى قد ذهب حتى الأحشاء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سـواد اللـيـل تسـرب فـىٌ إنتشر الـداء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00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360" y="144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شتاق لخالق من عدم يدعو الأشياء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فـيـغـير قـلـبــى ويلبسـنى حللاً بـيـضــاء</a:t>
            </a:r>
            <a:r>
              <a:rPr b="0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44280"/>
            <a:ext cx="9144000" cy="357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شتاق لخالق من عدم يدعو الأشياء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فـيـغـير قـلـبــى ويلبسـنى حللاً بـيـضــاء</a:t>
            </a:r>
            <a:r>
              <a:rPr b="0" i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63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771640" y="1052640"/>
            <a:ext cx="3348000" cy="14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حللاً بـيـضــاء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8" dur="3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295200" y="44280"/>
            <a:ext cx="9361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هل أطرق بابك بعد ضياع الكل 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أو يـصـلـح أن أقترب إلـيــك بـذلـى 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-252360" y="71280"/>
            <a:ext cx="93614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هل أطرق بابك بعد ضياع الكل 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أو يـصـلـح أن أقترب إلـيــك بـذلـى 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68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12600" y="1440"/>
            <a:ext cx="91216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ضــيــعــت أنـا فرحـتـى مـنـى بجـهــلــ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قد كنت حبيبى وخلى أنت بل أهل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2320" y="44280"/>
            <a:ext cx="91216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ضــيــعــت أنـا فرحـتـى مـنـى بجـهــلــ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قد كنت حبيبى وخلى أنت بل أهل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72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>
              <a:alphaModFix amt="13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-22320" y="58680"/>
            <a:ext cx="9144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تركتك لكنى أعود فترحم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latin typeface="AGA Battouta Regular"/>
              </a:rPr>
              <a:t>و لا بيدىُ إلأ الوعد ليسترنى</a:t>
            </a:r>
            <a:endParaRPr b="0" i="1" lang="en-US" sz="1800" spc="1" strike="noStrike">
              <a:ln w="0">
                <a:noFill/>
              </a:ln>
              <a:solidFill>
                <a:srgbClr val="000000"/>
              </a:solidFill>
              <a:latin typeface="AGA Battouta Regular"/>
              <a:ea typeface="AGA Battouta Regular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115920"/>
            <a:ext cx="914400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تركتك لكنى أعود فترحم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080808"/>
                  </a:outerShdw>
                </a:effectLst>
                <a:latin typeface="AGA Battouta Regular"/>
              </a:rPr>
              <a:t>و لا بيدىُ إلأ الوعد ليسترنى</a:t>
            </a:r>
            <a:endParaRPr b="0" i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080808"/>
                </a:outerShdw>
              </a:effectLst>
              <a:latin typeface="AGA Battouta Regular"/>
              <a:ea typeface="AGA Battouta Regular"/>
            </a:endParaRPr>
          </a:p>
        </p:txBody>
      </p:sp>
      <p:sp>
        <p:nvSpPr>
          <p:cNvPr id="76" name=""/>
          <p:cNvSpPr/>
          <p:nvPr/>
        </p:nvSpPr>
        <p:spPr>
          <a:xfrm>
            <a:off x="1562040" y="3860640"/>
            <a:ext cx="6265800" cy="28083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2:34:52Z</dcterms:created>
  <dc:creator>OoO</dc:creator>
  <dc:description/>
  <dc:language>en-US</dc:language>
  <cp:lastModifiedBy>stmina</cp:lastModifiedBy>
  <dcterms:modified xsi:type="dcterms:W3CDTF">2008-07-22T14:59:45Z</dcterms:modified>
  <cp:revision>15</cp:revision>
  <dc:subject/>
  <dc:title>Slide 1</dc:title>
</cp:coreProperties>
</file>