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0C2D-1AB3-484E-951B-8ADB859C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AF21-510B-493D-8D94-7448F779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498-44CF-4600-8480-EFED42FE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5C5-D110-4F6E-BBBC-7B87D8B9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12B8-8FD1-411C-972C-F105E3DF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E7E2-6CA8-46A8-96B2-DAB1DC06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5225-CC1E-44C3-BF3A-569CB602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1C8F-E3A5-474E-9AE5-848BAE67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871F-FCEC-47BD-ACB2-F678FEE4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0A7-82DA-4490-BA32-F5024445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99AD-9E1B-4893-B6DD-81BB7275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E6AF-41EE-49F0-91AC-55862298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B176-EA53-43F1-A7A9-F49628FDA6BB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3c7"/>
            </a:gs>
            <a:gs pos="100000">
              <a:srgbClr val="321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1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295200" y="44280"/>
            <a:ext cx="93614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هل أطرق بابك بعد ضياع الكل  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أو يـصـلـح أن أقترب إلـيــك بـذلـى 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-252360" y="71280"/>
            <a:ext cx="93614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هل أطرق بابك بعد ضياع الكل  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أو يـصـلـح أن أقترب إلـيــك بـذلـى 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  <p:sp>
        <p:nvSpPr>
          <p:cNvPr id="44" name=""/>
          <p:cNvSpPr/>
          <p:nvPr/>
        </p:nvSpPr>
        <p:spPr>
          <a:xfrm>
            <a:off x="1562040" y="3860640"/>
            <a:ext cx="6265800" cy="2808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1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36360" y="30240"/>
            <a:ext cx="9144000" cy="35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والقـلـب بأحشـائى يناديـك أجـبرنى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أشتاق لحضن الآب وعطفه يقبلنى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71280"/>
            <a:ext cx="9144000" cy="357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والقـلـب بأحشـائى يناديـك أجـبرنى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أشتاق لحضن الآب وعطفه يقبلنى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419640" y="3600360"/>
            <a:ext cx="2503440" cy="33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-1251000"/>
            <a:ext cx="9144000" cy="9576000"/>
          </a:xfrm>
          <a:prstGeom prst="rect">
            <a:avLst/>
          </a:prstGeom>
          <a:blipFill rotWithShape="0">
            <a:blip r:embed="rId1">
              <a:alphaModFix amt="3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360" y="217440"/>
            <a:ext cx="9144000" cy="573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جملنى فقبحى قد ذهب حتى الأحشاء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وسـواد اللـيـل تسـرب فـىٌ إنتشر الـداء</a:t>
            </a:r>
            <a:r>
              <a:rPr b="0" i="1" lang="en-US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 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260280"/>
            <a:ext cx="914400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جملنى فقبحى قد ذهب حتى الأحشاء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وسـواد اللـيـل تسـرب فـىٌ إنتشر الـداء</a:t>
            </a: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 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1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-36360" y="1440"/>
            <a:ext cx="9144000" cy="357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أشتاق لخالق من عدم يدعو الأشياء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فـيـغـير قـلـبــى ويلبسـنى حللاً بـيـضــاء</a:t>
            </a:r>
            <a:r>
              <a:rPr b="0" i="1" lang="en-US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 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44280"/>
            <a:ext cx="9144000" cy="357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أشتاق لخالق من عدم يدعو الأشياء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فـيـغـير قـلـبــى ويلبسـنى حللاً بـيـضــاء</a:t>
            </a: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 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  <p:sp>
        <p:nvSpPr>
          <p:cNvPr id="87" name=""/>
          <p:cNvSpPr/>
          <p:nvPr/>
        </p:nvSpPr>
        <p:spPr>
          <a:xfrm>
            <a:off x="1562040" y="3860640"/>
            <a:ext cx="6265800" cy="2808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771640" y="1052640"/>
            <a:ext cx="334800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حللاً بـيـضــاء 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16" dur="3000" fill="hold"/>
                                        <p:tgtEl>
                                          <p:spTgt spid="8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a971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1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-12600" y="1440"/>
            <a:ext cx="91216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ضــيــعــت أنـا فرحـتـى مـنـى بجـهــلــى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قد كنت حبيبى وخلى أنت بل أهلى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320" y="44280"/>
            <a:ext cx="91216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ضــيــعــت أنـا فرحـتـى مـنـى بجـهــلــى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قد كنت حبيبى وخلى أنت بل أهلى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  <p:sp>
        <p:nvSpPr>
          <p:cNvPr id="48" name=""/>
          <p:cNvSpPr/>
          <p:nvPr/>
        </p:nvSpPr>
        <p:spPr>
          <a:xfrm>
            <a:off x="1562040" y="3860640"/>
            <a:ext cx="6265800" cy="2808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baf7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1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22320" y="58680"/>
            <a:ext cx="91440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وتركتك لكنى أعود فترحمنى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و لا بيدىُ إلأ الوعد ليسترنى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15920"/>
            <a:ext cx="91440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وتركتك لكنى أعود فترحمنى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و لا بيدىُ إلأ الوعد ليسترنى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  <p:sp>
        <p:nvSpPr>
          <p:cNvPr id="52" name=""/>
          <p:cNvSpPr/>
          <p:nvPr/>
        </p:nvSpPr>
        <p:spPr>
          <a:xfrm>
            <a:off x="1562040" y="3860640"/>
            <a:ext cx="6265800" cy="2808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5a1"/>
            </a:gs>
            <a:gs pos="100000">
              <a:srgbClr val="66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1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36360" y="30240"/>
            <a:ext cx="9144000" cy="35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والقـلـب بأحشـائى يناديـك أجـبرنى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أشتاق لحضن الآب وعطفه يقبلنى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71280"/>
            <a:ext cx="9144000" cy="357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والقـلـب بأحشـائى يناديـك أجـبرنى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أشتاق لحضن الآب وعطفه يقبلنى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19640" y="3600360"/>
            <a:ext cx="2503440" cy="33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-1251000"/>
            <a:ext cx="9144000" cy="9576000"/>
          </a:xfrm>
          <a:prstGeom prst="rect">
            <a:avLst/>
          </a:prstGeom>
          <a:blipFill rotWithShape="0">
            <a:blip r:embed="rId1">
              <a:alphaModFix amt="3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360" y="217440"/>
            <a:ext cx="9144000" cy="573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جملنى فقبحى قد ذهب حتى الأحشاء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وسـواد اللـيـل تسـرب فـىٌ إنتشر الـداء</a:t>
            </a:r>
            <a:r>
              <a:rPr b="0" i="1" lang="en-US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 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260280"/>
            <a:ext cx="914400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جملنى فقبحى قد ذهب حتى الأحشاء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وسـواد اللـيـل تسـرب فـىٌ إنتشر الـداء</a:t>
            </a: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 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1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360" y="1440"/>
            <a:ext cx="9144000" cy="357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أشتاق لخالق من عدم يدعو الأشياء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فـيـغـير قـلـبــى ويلبسـنى حللاً بـيـضــاء</a:t>
            </a:r>
            <a:r>
              <a:rPr b="0" i="1" lang="en-US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 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44280"/>
            <a:ext cx="9144000" cy="357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أشتاق لخالق من عدم يدعو الأشياء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فـيـغـير قـلـبــى ويلبسـنى حللاً بـيـضــاء</a:t>
            </a: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 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  <p:sp>
        <p:nvSpPr>
          <p:cNvPr id="63" name=""/>
          <p:cNvSpPr/>
          <p:nvPr/>
        </p:nvSpPr>
        <p:spPr>
          <a:xfrm>
            <a:off x="1562040" y="3860640"/>
            <a:ext cx="6265800" cy="2808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771640" y="1052640"/>
            <a:ext cx="334800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حللاً بـيـضــاء 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8" dur="3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1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295200" y="44280"/>
            <a:ext cx="93614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هل أطرق بابك بعد ضياع الكل  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أو يـصـلـح أن أقترب إلـيــك بـذلـى 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252360" y="71280"/>
            <a:ext cx="93614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هل أطرق بابك بعد ضياع الكل  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أو يـصـلـح أن أقترب إلـيــك بـذلـى 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  <p:sp>
        <p:nvSpPr>
          <p:cNvPr id="68" name=""/>
          <p:cNvSpPr/>
          <p:nvPr/>
        </p:nvSpPr>
        <p:spPr>
          <a:xfrm>
            <a:off x="1562040" y="3860640"/>
            <a:ext cx="6265800" cy="2808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1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12600" y="1440"/>
            <a:ext cx="91216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ضــيــعــت أنـا فرحـتـى مـنـى بجـهــلــى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قد كنت حبيبى وخلى أنت بل أهلى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2320" y="44280"/>
            <a:ext cx="91216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ضــيــعــت أنـا فرحـتـى مـنـى بجـهــلــى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قد كنت حبيبى وخلى أنت بل أهلى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  <p:sp>
        <p:nvSpPr>
          <p:cNvPr id="72" name=""/>
          <p:cNvSpPr/>
          <p:nvPr/>
        </p:nvSpPr>
        <p:spPr>
          <a:xfrm>
            <a:off x="1562040" y="3860640"/>
            <a:ext cx="6265800" cy="2808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1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-22320" y="58680"/>
            <a:ext cx="91440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وتركتك لكنى أعود فترحمنى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و لا بيدىُ إلأ الوعد ليسترنى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15920"/>
            <a:ext cx="91440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وتركتك لكنى أعود فترحمنى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و لا بيدىُ إلأ الوعد ليسترنى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  <p:sp>
        <p:nvSpPr>
          <p:cNvPr id="76" name=""/>
          <p:cNvSpPr/>
          <p:nvPr/>
        </p:nvSpPr>
        <p:spPr>
          <a:xfrm>
            <a:off x="1562040" y="3860640"/>
            <a:ext cx="6265800" cy="2808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12:34:52Z</dcterms:created>
  <dc:creator>OoO</dc:creator>
  <dc:description/>
  <dc:language>en-US</dc:language>
  <cp:lastModifiedBy>stmina</cp:lastModifiedBy>
  <dcterms:modified xsi:type="dcterms:W3CDTF">2008-07-22T14:59:45Z</dcterms:modified>
  <cp:revision>15</cp:revision>
  <dc:subject/>
  <dc:title>Slide 1</dc:title>
</cp:coreProperties>
</file>