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2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79A-11CC-4403-89CA-29995659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B1D-BAD7-463F-80FA-E7D5941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669-FCD0-4833-89B7-F3C22E70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B0C-C826-4870-8E67-1EE79027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3C9-FC94-4A5D-A233-DCDA141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4A5C-A36E-4212-9C5E-8DCCA19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C78-0D46-4BD8-B458-A59B96BE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6570-FBB6-4AB8-9CCF-FDF9385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F48-EE65-4B00-A4BA-5F1D4458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71E-7C1C-4696-9D15-6F58A1A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19A-35F9-4382-8F8D-FB9C362C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FDE-823B-4E93-A56A-C9DB4EB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690D-292A-43F2-8211-67EA9B3C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55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3581280" y="182628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352680" y="380880"/>
            <a:ext cx="2505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een Mary 2</a:t>
            </a:r>
            <a:endParaRPr b="0" lang="en-US" sz="2400" spc="1" strike="noStrike">
              <a:ln w="1908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05320" y="1447920"/>
            <a:ext cx="2228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cc00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Visite à Québec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cc00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cc0099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2004 et 2005</a:t>
            </a:r>
            <a:endParaRPr b="0" lang="en-US" sz="2000" spc="1" strike="noStrike">
              <a:ln w="9360">
                <a:solidFill>
                  <a:srgbClr val="ffffcc"/>
                </a:solidFill>
                <a:miter/>
              </a:ln>
              <a:solidFill>
                <a:srgbClr val="cc0099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SC0559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SC_5109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SC_5136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SC_5208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SC_5252fst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SC_5267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SC_5634fstl" descr=""/>
          <p:cNvPicPr/>
          <p:nvPr/>
        </p:nvPicPr>
        <p:blipFill>
          <a:blip r:embed="rId1"/>
          <a:stretch/>
        </p:blipFill>
        <p:spPr>
          <a:xfrm>
            <a:off x="-19044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Queen%20Mary2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Queen%20Mary2%20(2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867280" y="501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ignature"/>
              </a:rPr>
              <a:t>Musique Love B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advTm="5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SC055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SC0556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SC055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SC055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SC055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SC055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SC055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SC0559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3:21:36Z</dcterms:created>
  <dc:creator>jocelyne</dc:creator>
  <dc:description/>
  <dc:language>en-US</dc:language>
  <cp:lastModifiedBy>Smets</cp:lastModifiedBy>
  <dcterms:modified xsi:type="dcterms:W3CDTF">2010-03-04T19:45:31Z</dcterms:modified>
  <cp:revision>13</cp:revision>
  <dc:subject/>
  <dc:title>Présentation PowerPoint</dc:title>
</cp:coreProperties>
</file>