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E72-626E-4C01-ADAA-0A892BCB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897-0908-40C9-95B5-F09FA4B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DB9-16CC-48A1-AD41-FC2C1E8C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B85-F28E-494C-8D7C-8F13D759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E88-BD8A-411D-980A-25D0C51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EEF-1763-47DB-B409-BE38ACA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C9E-F609-4D7D-8D7A-0F6CB97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927-FF09-4273-98A9-D041A43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2CA-C6CC-40B4-888B-D642D9C8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71A-FC8C-4415-A271-1B7F81E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D38-54A5-4471-A90C-6DCBC60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188-F075-4B83-B3E1-F518301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F26-36D0-4FED-8F8F-B350C847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55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3581280" y="1826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352680" y="380880"/>
            <a:ext cx="2505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en Mary 2</a:t>
            </a:r>
            <a:endParaRPr b="0" lang="en-US" sz="2400" spc="1" strike="noStrike">
              <a:ln w="1908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05320" y="1447920"/>
            <a:ext cx="2228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cc00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te à Québec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cc00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cc00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4 et 2005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cc00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SC055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SC_5109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SC_5136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SC_5208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SC_5252fst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SC_5267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SC_5634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Queen%20Mary2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Queen%20Mary2%20(2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501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ignature"/>
              </a:rPr>
              <a:t>Musique Love B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advTm="5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SC055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SC055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SC055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SC055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SC055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SC05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SC055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SC0559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3:21:36Z</dcterms:created>
  <dc:creator>jocelyne</dc:creator>
  <dc:description/>
  <dc:language>en-US</dc:language>
  <cp:lastModifiedBy>Smets</cp:lastModifiedBy>
  <dcterms:modified xsi:type="dcterms:W3CDTF">2010-03-04T19:45:31Z</dcterms:modified>
  <cp:revision>13</cp:revision>
  <dc:subject/>
  <dc:title>Présentation PowerPoint</dc:title>
</cp:coreProperties>
</file>